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drumroll.wav" ContentType="audio/x-wav"/>
  <Override PartName="/ppt/media/image15.wmf" ContentType="image/x-wmf"/>
  <Override PartName="/ppt/media/image14.wmf" ContentType="image/x-wmf"/>
  <Override PartName="/ppt/media/image1.wmf" ContentType="image/x-wmf"/>
  <Override PartName="/ppt/media/image10.wmf" ContentType="image/x-wmf"/>
  <Override PartName="/ppt/media/image2.png" ContentType="image/png"/>
  <Override PartName="/ppt/media/whoosh.wav" ContentType="audio/x-wav"/>
  <Override PartName="/ppt/media/image13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68F-0A43-42B8-BC07-9CD623E9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B49-007F-4167-9864-95B5F2FE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A697-3015-42B2-9448-2C5E77D2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7ED7-2A74-4269-A29F-96A43C6D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C215-C728-4B44-9F89-62D5448A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9EA3-20AB-4C08-B644-240472FB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A6D92-A32A-438D-B4EC-2D8E3F4C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B0AC-6206-4899-99BF-F26F07FE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71C-832E-421A-8160-15C61E92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B4D3-C4CD-4CC5-A539-1B2704DE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E917-4F3E-4754-80F4-2969594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9064-A4D2-404F-82F7-6CBCBD667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D8EC2-53F3-4080-96B6-987762A6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5331-543A-42B0-89EC-990368B0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7C48-90AF-4436-A14D-202C9201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A789-B686-480A-9730-72E02C34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5CB3-4F73-49C7-A0CD-E75F9C36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35E-65D0-4E4C-832B-E7A6A5E8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B201-4145-494E-AC6E-884D1030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F74A-7E82-4BDB-B041-AE781EA2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3D64-DD78-40F6-AACF-DBA00A82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9E9-1E95-4B41-B792-A352B3A3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730-7F12-4CE3-8A72-C1B91619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C38-E016-467B-9C04-6D68D52E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30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78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322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570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8172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0" y="2065680"/>
              <a:ext cx="9143280" cy="1735200"/>
              <a:chOff x="0" y="2065680"/>
              <a:chExt cx="9143280" cy="1735200"/>
            </a:xfrm>
          </p:grpSpPr>
          <p:sp>
            <p:nvSpPr>
              <p:cNvPr id="10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231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2560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2809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3057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38008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0" y="4296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0" y="47916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5040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5288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0" y="55353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0" y="6032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2791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5275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0" y="6775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0" y="4048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457200" y="5935680"/>
            <a:ext cx="236232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2971440" y="5935680"/>
            <a:ext cx="34290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878160" y="6392880"/>
            <a:ext cx="226548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F73-21FA-42C0-BFBF-48699E54165B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72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3312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5781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82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10738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0" y="1323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1569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1816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0" y="2065680"/>
              <a:ext cx="9143280" cy="1734120"/>
              <a:chOff x="0" y="2065680"/>
              <a:chExt cx="9143280" cy="1734120"/>
            </a:xfrm>
          </p:grpSpPr>
          <p:sp>
            <p:nvSpPr>
              <p:cNvPr id="81" name=""/>
              <p:cNvSpPr/>
              <p:nvPr/>
            </p:nvSpPr>
            <p:spPr>
              <a:xfrm>
                <a:off x="0" y="20656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231264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25614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280836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305712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33040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355248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799800"/>
                <a:ext cx="9143280" cy="0"/>
              </a:xfrm>
              <a:prstGeom prst="line">
                <a:avLst/>
              </a:prstGeom>
              <a:ln cap="sq"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0" y="42962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454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0" y="47919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504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52876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553500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57837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0307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627948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652644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677556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4048920"/>
              <a:ext cx="9143640" cy="0"/>
            </a:xfrm>
            <a:prstGeom prst="line">
              <a:avLst/>
            </a:prstGeom>
            <a:ln cap="sq"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dt" idx="4"/>
          </p:nvPr>
        </p:nvSpPr>
        <p:spPr>
          <a:xfrm>
            <a:off x="380880" y="60199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5"/>
          </p:nvPr>
        </p:nvSpPr>
        <p:spPr>
          <a:xfrm>
            <a:off x="2971800" y="60199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E204-9A60-4275-8D84-D5D0E5249374}" type="slidenum"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0033"/>
              </a:buClr>
              <a:buFont typeface="Monotype Sorts" charset="2"/>
              <a:buChar char="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2666880" cy="175248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969696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ién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Qué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0033"/>
                </a:solidFill>
                <a:latin typeface="Comic Sans MS"/>
              </a:rPr>
              <a:t>¿Cuándo?</a:t>
            </a:r>
            <a:endParaRPr b="0" lang="en-US" sz="36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952960" y="2666880"/>
            <a:ext cx="1590840" cy="3857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1DC09-62D7-4FB8-ADE8-DBDCA8707F32}" type="slidenum">
              <a:t>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761760" y="380520"/>
            <a:ext cx="289548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Quién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les?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  <a:p>
            <a:pPr marL="29160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5618880" y="3124080"/>
            <a:ext cx="2491200" cy="33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Cuánto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943600" y="380880"/>
            <a:ext cx="2006640" cy="24386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066680" y="4114800"/>
            <a:ext cx="2286000" cy="223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E5A3-878F-4B53-833C-A31632CFEE19}" type="slidenum">
              <a:t>10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5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676520" y="283680"/>
            <a:ext cx="57909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una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848960" y="3352680"/>
            <a:ext cx="5465880" cy="12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s      v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1447920"/>
            <a:ext cx="7162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re are several ways to ask a question in Spanish, besides using question-asking words. One way is to simply place the subject after the verb, and change the inflection of your voic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"/>
          <p:cNvSpPr/>
          <p:nvPr/>
        </p:nvSpPr>
        <p:spPr>
          <a:xfrm>
            <a:off x="1849320" y="4735440"/>
            <a:ext cx="59230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Está </a:t>
            </a:r>
            <a:r>
              <a:rPr b="0" lang="en-US" sz="3200" spc="-1" strike="noStrike">
                <a:solidFill>
                  <a:srgbClr val="0000cc"/>
                </a:solidFill>
                <a:latin typeface="Comic Sans MS"/>
              </a:rPr>
              <a:t>Carlo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n la bibliotec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A7D6-BC7A-4FFC-9332-3EFBFD952BD8}" type="slidenum">
              <a:t>11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1066680" y="3352320"/>
            <a:ext cx="7010640" cy="72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mañana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2743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14479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the written question marks and the rising tone of the speaker’s voice alone may indicate the difference between a statement and a question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600200" y="283680"/>
            <a:ext cx="6019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"/>
          <p:cNvSpPr/>
          <p:nvPr/>
        </p:nvSpPr>
        <p:spPr>
          <a:xfrm>
            <a:off x="914400" y="4152960"/>
            <a:ext cx="73915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Hay una fiesta en el colegio maña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3A4F-8C09-411D-8CA3-B50540F2FA65}" type="slidenum">
              <a:t>12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457200" y="3166560"/>
            <a:ext cx="8153280" cy="102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ay una fiesta en el colegio ho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¿verdad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There is a party at school today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right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447920"/>
            <a:ext cx="7696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Sometimes you can add a tag word such as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no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or </a:t>
            </a:r>
            <a:r>
              <a:rPr b="0" i="1" lang="es-ES" sz="2400" spc="-1" strike="noStrike">
                <a:solidFill>
                  <a:srgbClr val="0000cc"/>
                </a:solidFill>
                <a:latin typeface="Comic Sans MS"/>
              </a:rPr>
              <a:t>¿verdad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o the end of a sentence, much as you might add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right?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, </a:t>
            </a:r>
            <a:r>
              <a:rPr b="0" lang="es-ES" sz="2400" spc="-1" strike="noStrike">
                <a:solidFill>
                  <a:srgbClr val="0000cc"/>
                </a:solidFill>
                <a:latin typeface="Comic Sans MS"/>
              </a:rPr>
              <a:t>don</a:t>
            </a:r>
            <a:r>
              <a:rPr b="0" lang="en-US" sz="2400" spc="-1" strike="noStrike">
                <a:solidFill>
                  <a:srgbClr val="0000cc"/>
                </a:solidFill>
                <a:latin typeface="Comic Sans MS"/>
              </a:rPr>
              <a:t>’t you?</a:t>
            </a: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, etc.,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057400" y="457200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Pedro está enfermo,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no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Pedro is sick, 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isn’t he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tengo 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otra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pregunta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5122800"/>
            <a:ext cx="9144000" cy="1735200"/>
            <a:chOff x="0" y="5122800"/>
            <a:chExt cx="9144000" cy="173520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7124760" y="5122800"/>
              <a:ext cx="2019240" cy="173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20F0-52AB-449E-919F-6CB2BBFCC675}" type="slidenum">
              <a:t>13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4560" y="3352320"/>
            <a:ext cx="655308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0" lang="en-US" sz="3200" spc="-1" strike="noStrike">
                <a:solidFill>
                  <a:srgbClr val="ff0033"/>
                </a:solidFill>
                <a:latin typeface="Comic Sans MS"/>
              </a:rPr>
              <a:t>Cuándo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el </a:t>
            </a:r>
            <a:r>
              <a:rPr b="0" lang="en-US" sz="3200" spc="-1" strike="noStrike" u="sng">
                <a:solidFill>
                  <a:srgbClr val="003366"/>
                </a:solidFill>
                <a:uFillTx/>
                <a:latin typeface="Comic Sans MS"/>
              </a:rPr>
              <a:t>concierto de rock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v                  s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58" name=""/>
          <p:cNvSpPr/>
          <p:nvPr/>
        </p:nvSpPr>
        <p:spPr>
          <a:xfrm>
            <a:off x="762120" y="1447920"/>
            <a:ext cx="76960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When forming information questions with any of the interrogative words (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¿cómo?, ¿cuál?, etc.), the verb </a:t>
            </a:r>
            <a:r>
              <a:rPr b="0" i="1" lang="es-ES" sz="2400" spc="-1" strike="noStrike" u="sng">
                <a:solidFill>
                  <a:srgbClr val="ff0033"/>
                </a:solidFill>
                <a:uFillTx/>
                <a:latin typeface="Comic Sans MS"/>
              </a:rPr>
              <a:t>precedes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the subject, just as in English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4876920"/>
            <a:ext cx="5486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l concierto de rock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s-ES" sz="2800" spc="-1" strike="noStrike" u="sng">
                <a:solidFill>
                  <a:srgbClr val="003366"/>
                </a:solidFill>
                <a:uFillTx/>
                <a:latin typeface="Comic Sans MS"/>
              </a:rPr>
              <a:t>es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el lune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             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s                 v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219320" y="283680"/>
            <a:ext cx="670536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629400" y="3962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5C7-0AD6-4E13-B1EA-48EB5FD11AB5}" type="slidenum">
              <a:t>1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500"/>
                            </p:stCondLst>
                            <p:childTnLst>
                              <p:par>
                                <p:cTn id="477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066320" y="5029200"/>
            <a:ext cx="69534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n-US" sz="3200" spc="-1" strike="noStrike" u="sng">
                <a:solidFill>
                  <a:srgbClr val="ff0033"/>
                </a:solidFill>
                <a:uFillTx/>
                <a:latin typeface="Comic Sans MS"/>
              </a:rPr>
              <a:t>A qué</a:t>
            </a:r>
            <a:r>
              <a:rPr b="1" i="1" lang="en-US" sz="3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hora es la fiesta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La fiesta es a las nueve de la noche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160020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The interrogative words may be used alone or in combination</a:t>
            </a:r>
            <a:r>
              <a:rPr b="0" lang="es-ES" sz="2400" spc="-1" strike="noStrike">
                <a:solidFill>
                  <a:srgbClr val="ff0033"/>
                </a:solidFill>
                <a:latin typeface="Comic Sans MS"/>
              </a:rPr>
              <a:t> with various preposi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914400" y="283680"/>
            <a:ext cx="72388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Y aún una pregunta más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276720"/>
            <a:ext cx="343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¿</a:t>
            </a:r>
            <a:r>
              <a:rPr b="1" i="1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e dónd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es él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El es de Chile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912-A2A8-46F6-8401-61AD28420EF5}" type="slidenum">
              <a:t>15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1523880" y="1905120"/>
            <a:ext cx="70106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When answering questions, pay attention to the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 for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  The verb form in the answer will be based on the question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85680" y="198360"/>
            <a:ext cx="8829720" cy="1803600"/>
            <a:chOff x="85680" y="198360"/>
            <a:chExt cx="8829720" cy="1803600"/>
          </a:xfrm>
        </p:grpSpPr>
        <p:sp>
          <p:nvSpPr>
            <p:cNvPr id="268" name=""/>
            <p:cNvSpPr/>
            <p:nvPr/>
          </p:nvSpPr>
          <p:spPr>
            <a:xfrm>
              <a:off x="1676520" y="512640"/>
              <a:ext cx="723888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Preguntas y respuesta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85680" y="198360"/>
              <a:ext cx="1362240" cy="180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"/>
          <p:cNvSpPr/>
          <p:nvPr/>
        </p:nvSpPr>
        <p:spPr>
          <a:xfrm>
            <a:off x="1523880" y="3505320"/>
            <a:ext cx="70106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If the question is asked of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you, 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the answer is in the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form.  If the question asks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then the answer is also about </a:t>
            </a:r>
            <a:r>
              <a:rPr b="0" i="1" lang="en-US" sz="2800" spc="-1" strike="noStrike">
                <a:solidFill>
                  <a:srgbClr val="ff0033"/>
                </a:solidFill>
                <a:latin typeface="Comic Sans MS"/>
              </a:rPr>
              <a:t>him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, etc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23880" y="5562720"/>
            <a:ext cx="7010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EVERY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sentence (answer) must have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subject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 and a </a:t>
            </a:r>
            <a:r>
              <a:rPr b="0" i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verb</a:t>
            </a: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746B-AA51-4943-B17E-074EA978AF20}" type="slidenum">
              <a:t>1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1981080" y="457200"/>
            <a:ext cx="5410440" cy="5867280"/>
            <a:chOff x="1981080" y="457200"/>
            <a:chExt cx="5410440" cy="5867280"/>
          </a:xfrm>
        </p:grpSpPr>
        <p:sp>
          <p:nvSpPr>
            <p:cNvPr id="273" name=""/>
            <p:cNvSpPr/>
            <p:nvPr/>
          </p:nvSpPr>
          <p:spPr>
            <a:xfrm>
              <a:off x="4572000" y="457200"/>
              <a:ext cx="0" cy="586728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81080" y="1295280"/>
              <a:ext cx="5410440" cy="0"/>
            </a:xfrm>
            <a:prstGeom prst="line">
              <a:avLst/>
            </a:prstGeom>
            <a:ln cap="sq"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285160" y="664920"/>
              <a:ext cx="1605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Answer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48920" y="664920"/>
              <a:ext cx="192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Comic Sans MS"/>
                </a:rPr>
                <a:t>Question</a:t>
              </a:r>
              <a:endParaRPr b="0" lang="en-US" sz="3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2862000" y="152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9160" y="152712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 / 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72800" y="2060640"/>
            <a:ext cx="52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t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46320" y="2063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459520" y="259380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56440" y="2597040"/>
            <a:ext cx="13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él / ell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61560" y="3127320"/>
            <a:ext cx="75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46320" y="313056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y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309040" y="403848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678200" y="4041720"/>
            <a:ext cx="272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 / 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28840" y="4572000"/>
            <a:ext cx="16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v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06320" y="45752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137680" y="510552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34960" y="5108400"/>
            <a:ext cx="202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ellos / ella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91360" y="5700600"/>
            <a:ext cx="9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Uds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220360" y="5703840"/>
            <a:ext cx="16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Comic Sans MS"/>
              </a:rPr>
              <a:t>nosotro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728E-23BA-4928-9E49-2F034CB5D1CF}" type="slidenum">
              <a:t>17</a:t>
            </a:fld>
          </a:p>
        </p:txBody>
      </p:sp>
    </p:spTree>
  </p:cSld>
  <p:transition spd="med">
    <p:zoom dir="out"/>
    <p:sndAc>
      <p:stSnd>
        <p:snd r:embed="rId1" name="whoosh.wav"/>
      </p:stSnd>
    </p:sndAc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24800" y="1722600"/>
            <a:ext cx="46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udias mucho en la escuel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9840" y="2209680"/>
            <a:ext cx="533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A qué hora tienes el almuerzo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6320" y="2743200"/>
            <a:ext cx="58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uánta tarea hay en la clase de inglé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11480" y="3200400"/>
            <a:ext cx="39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Dónde están tus amigo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8840" y="365760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Qué necesitan para la clase de matemáticas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9360" y="411480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Cómo está tu famil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04920" y="838080"/>
            <a:ext cx="8381520" cy="6397560"/>
            <a:chOff x="304920" y="838080"/>
            <a:chExt cx="8381520" cy="6397560"/>
          </a:xfrm>
        </p:grpSpPr>
        <p:sp>
          <p:nvSpPr>
            <p:cNvPr id="300" name=""/>
            <p:cNvSpPr/>
            <p:nvPr/>
          </p:nvSpPr>
          <p:spPr>
            <a:xfrm>
              <a:off x="304920" y="874440"/>
              <a:ext cx="5333760" cy="78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3366"/>
                  </a:solidFill>
                  <a:latin typeface="Comic Sans MS"/>
                </a:rPr>
                <a:t>Y la respuesta es…</a:t>
              </a:r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pic>
          <p:nvPicPr>
            <p:cNvPr id="301" name="" descr=""/>
            <p:cNvPicPr/>
            <p:nvPr/>
          </p:nvPicPr>
          <p:blipFill>
            <a:blip r:embed="rId1"/>
            <a:stretch/>
          </p:blipFill>
          <p:spPr>
            <a:xfrm>
              <a:off x="5867280" y="838080"/>
              <a:ext cx="2819160" cy="15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" descr=""/>
            <p:cNvPicPr/>
            <p:nvPr/>
          </p:nvPicPr>
          <p:blipFill>
            <a:blip r:embed="rId2"/>
            <a:stretch/>
          </p:blipFill>
          <p:spPr>
            <a:xfrm>
              <a:off x="380880" y="5675040"/>
              <a:ext cx="2819160" cy="156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436320" y="4648320"/>
            <a:ext cx="37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Vosotros bailáis mucho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8560" y="5105520"/>
            <a:ext cx="90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Uds. van a pasa un rato con amigos después de escuela hoy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3920" y="563868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Comic Sans MS"/>
              </a:rPr>
              <a:t>¿Estás en la clase de historia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542C-5EEC-42F4-B19E-3E875D31DD6E}" type="slidenum">
              <a:t>18</a:t>
            </a:fld>
          </a:p>
        </p:txBody>
      </p:sp>
    </p:spTree>
  </p:cSld>
  <p:transition spd="med">
    <p:zoom dir="out"/>
    <p:sndAc>
      <p:stSnd>
        <p:snd r:embed="rId3" name="whoosh.wav"/>
      </p:stSnd>
    </p:sndAc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430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971800" y="22856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Comic Sans MS"/>
              </a:rPr>
              <a:t>Terminamos…</a:t>
            </a:r>
            <a:endParaRPr b="0" lang="en-US" sz="60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625320" y="457200"/>
            <a:ext cx="2803680" cy="58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1CDE-8DC0-473C-8452-86C41E09EA4D}" type="slidenum">
              <a:t>19</a:t>
            </a:fld>
          </a:p>
        </p:txBody>
      </p:sp>
    </p:spTree>
  </p:cSld>
  <p:transition spd="med">
    <p:zoom dir="out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8" dur="1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83680"/>
            <a:ext cx="83059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Las palabras interrogativas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742840"/>
            <a:ext cx="746784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Cómo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stás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How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¿De </a:t>
            </a:r>
            <a:r>
              <a:rPr b="1" lang="es-ES" sz="28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 eres?</a:t>
            </a:r>
            <a:r>
              <a:rPr b="1" lang="es-E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Comic Sans MS"/>
              </a:rPr>
              <a:t>Where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 are you from?</a:t>
            </a:r>
            <a:r>
              <a:rPr b="0" lang="es-E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1" lang="en-US" sz="28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es ella?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sh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52388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We are already familiar with several words used for asking </a:t>
            </a:r>
            <a:r>
              <a:rPr b="1" i="1" lang="en-US" sz="2400" spc="-1" strike="noStrike" u="sng">
                <a:solidFill>
                  <a:srgbClr val="003366"/>
                </a:solidFill>
                <a:uFillTx/>
                <a:latin typeface="Comic Sans MS"/>
              </a:rPr>
              <a:t>information</a:t>
            </a:r>
            <a:r>
              <a:rPr b="1" lang="en-US" sz="2400" spc="-1" strike="noStrike">
                <a:solidFill>
                  <a:srgbClr val="003366"/>
                </a:solidFill>
                <a:latin typeface="Comic Sans MS"/>
              </a:rPr>
              <a:t> questions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427560" y="5638680"/>
            <a:ext cx="2287440" cy="10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489A-E8AD-48D5-B075-69003837E45C}" type="slidenum">
              <a:t>2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7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436680"/>
            <a:ext cx="5867280" cy="116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Tod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 las </a:t>
            </a:r>
            <a:r>
              <a:rPr b="0" i="1" lang="en-US" sz="4400" spc="-1" strike="noStrike">
                <a:solidFill>
                  <a:srgbClr val="003366"/>
                </a:solidFill>
                <a:latin typeface="Comic Sans MS"/>
              </a:rPr>
              <a:t>palabras interrogativas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…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4419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876920" y="2365200"/>
            <a:ext cx="3886200" cy="3807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5018040" y="1590840"/>
            <a:ext cx="2770200" cy="645840"/>
            <a:chOff x="5018040" y="1590840"/>
            <a:chExt cx="2770200" cy="645840"/>
          </a:xfrm>
        </p:grpSpPr>
        <p:sp>
          <p:nvSpPr>
            <p:cNvPr id="154" name="SMARTInkAnnotation0"/>
            <p:cNvSpPr/>
            <p:nvPr/>
          </p:nvSpPr>
          <p:spPr>
            <a:xfrm>
              <a:off x="5018040" y="1590840"/>
              <a:ext cx="380880" cy="645840"/>
            </a:xfrm>
            <a:custGeom>
              <a:avLst/>
              <a:gdLst/>
              <a:ahLst/>
              <a:rect l="l" t="t" r="r" b="b"/>
              <a:pathLst>
                <a:path w="240" h="407">
                  <a:moveTo>
                    <a:pt x="17" y="112"/>
                  </a:moveTo>
                  <a:lnTo>
                    <a:pt x="17" y="127"/>
                  </a:lnTo>
                  <a:lnTo>
                    <a:pt x="19" y="136"/>
                  </a:lnTo>
                  <a:lnTo>
                    <a:pt x="21" y="146"/>
                  </a:lnTo>
                  <a:lnTo>
                    <a:pt x="22" y="157"/>
                  </a:lnTo>
                  <a:lnTo>
                    <a:pt x="22" y="170"/>
                  </a:lnTo>
                  <a:lnTo>
                    <a:pt x="23" y="198"/>
                  </a:lnTo>
                  <a:lnTo>
                    <a:pt x="23" y="206"/>
                  </a:lnTo>
                  <a:lnTo>
                    <a:pt x="24" y="215"/>
                  </a:lnTo>
                  <a:lnTo>
                    <a:pt x="26" y="224"/>
                  </a:lnTo>
                  <a:lnTo>
                    <a:pt x="27" y="232"/>
                  </a:lnTo>
                  <a:lnTo>
                    <a:pt x="27" y="240"/>
                  </a:lnTo>
                  <a:lnTo>
                    <a:pt x="28" y="248"/>
                  </a:lnTo>
                  <a:lnTo>
                    <a:pt x="28" y="265"/>
                  </a:lnTo>
                  <a:lnTo>
                    <a:pt x="28" y="298"/>
                  </a:lnTo>
                  <a:lnTo>
                    <a:pt x="28" y="306"/>
                  </a:lnTo>
                  <a:lnTo>
                    <a:pt x="27" y="314"/>
                  </a:lnTo>
                  <a:lnTo>
                    <a:pt x="25" y="321"/>
                  </a:lnTo>
                  <a:lnTo>
                    <a:pt x="24" y="328"/>
                  </a:lnTo>
                  <a:lnTo>
                    <a:pt x="24" y="335"/>
                  </a:lnTo>
                  <a:lnTo>
                    <a:pt x="23" y="347"/>
                  </a:lnTo>
                  <a:lnTo>
                    <a:pt x="23" y="359"/>
                  </a:lnTo>
                  <a:lnTo>
                    <a:pt x="21" y="370"/>
                  </a:lnTo>
                  <a:lnTo>
                    <a:pt x="19" y="381"/>
                  </a:lnTo>
                  <a:lnTo>
                    <a:pt x="18" y="393"/>
                  </a:lnTo>
                  <a:lnTo>
                    <a:pt x="17" y="406"/>
                  </a:lnTo>
                  <a:lnTo>
                    <a:pt x="17" y="406"/>
                  </a:lnTo>
                  <a:lnTo>
                    <a:pt x="17" y="397"/>
                  </a:lnTo>
                  <a:lnTo>
                    <a:pt x="17" y="385"/>
                  </a:lnTo>
                  <a:lnTo>
                    <a:pt x="15" y="375"/>
                  </a:lnTo>
                  <a:lnTo>
                    <a:pt x="13" y="364"/>
                  </a:lnTo>
                  <a:lnTo>
                    <a:pt x="12" y="353"/>
                  </a:lnTo>
                  <a:lnTo>
                    <a:pt x="12" y="347"/>
                  </a:lnTo>
                  <a:lnTo>
                    <a:pt x="12" y="323"/>
                  </a:lnTo>
                  <a:lnTo>
                    <a:pt x="12" y="281"/>
                  </a:lnTo>
                  <a:lnTo>
                    <a:pt x="11" y="272"/>
                  </a:lnTo>
                  <a:lnTo>
                    <a:pt x="10" y="263"/>
                  </a:lnTo>
                  <a:lnTo>
                    <a:pt x="9" y="254"/>
                  </a:lnTo>
                  <a:lnTo>
                    <a:pt x="8" y="245"/>
                  </a:lnTo>
                  <a:lnTo>
                    <a:pt x="7" y="237"/>
                  </a:lnTo>
                  <a:lnTo>
                    <a:pt x="7" y="229"/>
                  </a:lnTo>
                  <a:lnTo>
                    <a:pt x="6" y="220"/>
                  </a:lnTo>
                  <a:lnTo>
                    <a:pt x="5" y="210"/>
                  </a:lnTo>
                  <a:lnTo>
                    <a:pt x="3" y="200"/>
                  </a:lnTo>
                  <a:lnTo>
                    <a:pt x="2" y="190"/>
                  </a:lnTo>
                  <a:lnTo>
                    <a:pt x="2" y="182"/>
                  </a:lnTo>
                  <a:lnTo>
                    <a:pt x="1" y="173"/>
                  </a:lnTo>
                  <a:lnTo>
                    <a:pt x="1" y="156"/>
                  </a:lnTo>
                  <a:lnTo>
                    <a:pt x="0" y="119"/>
                  </a:lnTo>
                  <a:lnTo>
                    <a:pt x="1" y="110"/>
                  </a:lnTo>
                  <a:lnTo>
                    <a:pt x="2" y="102"/>
                  </a:lnTo>
                  <a:lnTo>
                    <a:pt x="3" y="94"/>
                  </a:lnTo>
                  <a:lnTo>
                    <a:pt x="5" y="87"/>
                  </a:lnTo>
                  <a:lnTo>
                    <a:pt x="6" y="80"/>
                  </a:lnTo>
                  <a:lnTo>
                    <a:pt x="8" y="74"/>
                  </a:lnTo>
                  <a:lnTo>
                    <a:pt x="10" y="67"/>
                  </a:lnTo>
                  <a:lnTo>
                    <a:pt x="13" y="60"/>
                  </a:lnTo>
                  <a:lnTo>
                    <a:pt x="16" y="53"/>
                  </a:lnTo>
                  <a:lnTo>
                    <a:pt x="23" y="42"/>
                  </a:lnTo>
                  <a:lnTo>
                    <a:pt x="30" y="32"/>
                  </a:lnTo>
                  <a:lnTo>
                    <a:pt x="38" y="24"/>
                  </a:lnTo>
                  <a:lnTo>
                    <a:pt x="42" y="20"/>
                  </a:lnTo>
                  <a:lnTo>
                    <a:pt x="47" y="16"/>
                  </a:lnTo>
                  <a:lnTo>
                    <a:pt x="52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8" y="4"/>
                  </a:lnTo>
                  <a:lnTo>
                    <a:pt x="74" y="3"/>
                  </a:lnTo>
                  <a:lnTo>
                    <a:pt x="79" y="1"/>
                  </a:lnTo>
                  <a:lnTo>
                    <a:pt x="85" y="1"/>
                  </a:lnTo>
                  <a:lnTo>
                    <a:pt x="91" y="0"/>
                  </a:lnTo>
                  <a:lnTo>
                    <a:pt x="98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19" y="1"/>
                  </a:lnTo>
                  <a:lnTo>
                    <a:pt x="126" y="2"/>
                  </a:lnTo>
                  <a:lnTo>
                    <a:pt x="134" y="4"/>
                  </a:lnTo>
                  <a:lnTo>
                    <a:pt x="148" y="7"/>
                  </a:lnTo>
                  <a:lnTo>
                    <a:pt x="155" y="9"/>
                  </a:lnTo>
                  <a:lnTo>
                    <a:pt x="162" y="12"/>
                  </a:lnTo>
                  <a:lnTo>
                    <a:pt x="168" y="15"/>
                  </a:lnTo>
                  <a:lnTo>
                    <a:pt x="176" y="21"/>
                  </a:lnTo>
                  <a:lnTo>
                    <a:pt x="186" y="27"/>
                  </a:lnTo>
                  <a:lnTo>
                    <a:pt x="197" y="35"/>
                  </a:lnTo>
                  <a:lnTo>
                    <a:pt x="206" y="42"/>
                  </a:lnTo>
                  <a:lnTo>
                    <a:pt x="213" y="48"/>
                  </a:lnTo>
                  <a:lnTo>
                    <a:pt x="219" y="54"/>
                  </a:lnTo>
                  <a:lnTo>
                    <a:pt x="224" y="60"/>
                  </a:lnTo>
                  <a:lnTo>
                    <a:pt x="230" y="72"/>
                  </a:lnTo>
                  <a:lnTo>
                    <a:pt x="238" y="86"/>
                  </a:lnTo>
                  <a:lnTo>
                    <a:pt x="239" y="91"/>
                  </a:lnTo>
                  <a:lnTo>
                    <a:pt x="238" y="101"/>
                  </a:lnTo>
                  <a:lnTo>
                    <a:pt x="235" y="110"/>
                  </a:lnTo>
                  <a:lnTo>
                    <a:pt x="234" y="115"/>
                  </a:lnTo>
                  <a:lnTo>
                    <a:pt x="229" y="123"/>
                  </a:lnTo>
                  <a:lnTo>
                    <a:pt x="226" y="126"/>
                  </a:lnTo>
                  <a:lnTo>
                    <a:pt x="222" y="130"/>
                  </a:lnTo>
                  <a:lnTo>
                    <a:pt x="217" y="132"/>
                  </a:lnTo>
                  <a:lnTo>
                    <a:pt x="212" y="135"/>
                  </a:lnTo>
                  <a:lnTo>
                    <a:pt x="207" y="138"/>
                  </a:lnTo>
                  <a:lnTo>
                    <a:pt x="202" y="141"/>
                  </a:lnTo>
                  <a:lnTo>
                    <a:pt x="197" y="144"/>
                  </a:lnTo>
                  <a:lnTo>
                    <a:pt x="191" y="147"/>
                  </a:lnTo>
                  <a:lnTo>
                    <a:pt x="186" y="150"/>
                  </a:lnTo>
                  <a:lnTo>
                    <a:pt x="180" y="152"/>
                  </a:lnTo>
                  <a:lnTo>
                    <a:pt x="175" y="154"/>
                  </a:lnTo>
                  <a:lnTo>
                    <a:pt x="169" y="155"/>
                  </a:lnTo>
                  <a:lnTo>
                    <a:pt x="163" y="155"/>
                  </a:lnTo>
                  <a:lnTo>
                    <a:pt x="158" y="156"/>
                  </a:lnTo>
                  <a:lnTo>
                    <a:pt x="152" y="156"/>
                  </a:lnTo>
                  <a:lnTo>
                    <a:pt x="141" y="156"/>
                  </a:lnTo>
                  <a:lnTo>
                    <a:pt x="108" y="157"/>
                  </a:lnTo>
                  <a:lnTo>
                    <a:pt x="104" y="157"/>
                  </a:lnTo>
                  <a:lnTo>
                    <a:pt x="100" y="156"/>
                  </a:lnTo>
                  <a:lnTo>
                    <a:pt x="98" y="155"/>
                  </a:lnTo>
                  <a:lnTo>
                    <a:pt x="90" y="151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5" name="SMARTInkAnnotation1"/>
            <p:cNvSpPr/>
            <p:nvPr/>
          </p:nvSpPr>
          <p:spPr>
            <a:xfrm>
              <a:off x="5556240" y="1697040"/>
              <a:ext cx="231840" cy="22392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38" y="11"/>
                  </a:moveTo>
                  <a:lnTo>
                    <a:pt x="32" y="20"/>
                  </a:lnTo>
                  <a:lnTo>
                    <a:pt x="30" y="24"/>
                  </a:lnTo>
                  <a:lnTo>
                    <a:pt x="28" y="29"/>
                  </a:lnTo>
                  <a:lnTo>
                    <a:pt x="25" y="34"/>
                  </a:lnTo>
                  <a:lnTo>
                    <a:pt x="23" y="39"/>
                  </a:lnTo>
                  <a:lnTo>
                    <a:pt x="20" y="48"/>
                  </a:lnTo>
                  <a:lnTo>
                    <a:pt x="14" y="60"/>
                  </a:lnTo>
                  <a:lnTo>
                    <a:pt x="12" y="64"/>
                  </a:lnTo>
                  <a:lnTo>
                    <a:pt x="10" y="69"/>
                  </a:lnTo>
                  <a:lnTo>
                    <a:pt x="8" y="74"/>
                  </a:lnTo>
                  <a:lnTo>
                    <a:pt x="6" y="79"/>
                  </a:lnTo>
                  <a:lnTo>
                    <a:pt x="4" y="83"/>
                  </a:lnTo>
                  <a:lnTo>
                    <a:pt x="3" y="87"/>
                  </a:lnTo>
                  <a:lnTo>
                    <a:pt x="1" y="92"/>
                  </a:lnTo>
                  <a:lnTo>
                    <a:pt x="0" y="98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1" y="115"/>
                  </a:lnTo>
                  <a:lnTo>
                    <a:pt x="2" y="120"/>
                  </a:lnTo>
                  <a:lnTo>
                    <a:pt x="4" y="124"/>
                  </a:lnTo>
                  <a:lnTo>
                    <a:pt x="7" y="127"/>
                  </a:lnTo>
                  <a:lnTo>
                    <a:pt x="10" y="129"/>
                  </a:lnTo>
                  <a:lnTo>
                    <a:pt x="13" y="132"/>
                  </a:lnTo>
                  <a:lnTo>
                    <a:pt x="16" y="134"/>
                  </a:lnTo>
                  <a:lnTo>
                    <a:pt x="20" y="136"/>
                  </a:lnTo>
                  <a:lnTo>
                    <a:pt x="24" y="138"/>
                  </a:lnTo>
                  <a:lnTo>
                    <a:pt x="29" y="138"/>
                  </a:lnTo>
                  <a:lnTo>
                    <a:pt x="34" y="139"/>
                  </a:lnTo>
                  <a:lnTo>
                    <a:pt x="39" y="140"/>
                  </a:lnTo>
                  <a:lnTo>
                    <a:pt x="44" y="140"/>
                  </a:lnTo>
                  <a:lnTo>
                    <a:pt x="50" y="140"/>
                  </a:lnTo>
                  <a:lnTo>
                    <a:pt x="55" y="140"/>
                  </a:lnTo>
                  <a:lnTo>
                    <a:pt x="61" y="139"/>
                  </a:lnTo>
                  <a:lnTo>
                    <a:pt x="66" y="137"/>
                  </a:lnTo>
                  <a:lnTo>
                    <a:pt x="72" y="136"/>
                  </a:lnTo>
                  <a:lnTo>
                    <a:pt x="78" y="134"/>
                  </a:lnTo>
                  <a:lnTo>
                    <a:pt x="83" y="133"/>
                  </a:lnTo>
                  <a:lnTo>
                    <a:pt x="89" y="130"/>
                  </a:lnTo>
                  <a:lnTo>
                    <a:pt x="94" y="127"/>
                  </a:lnTo>
                  <a:lnTo>
                    <a:pt x="100" y="124"/>
                  </a:lnTo>
                  <a:lnTo>
                    <a:pt x="106" y="121"/>
                  </a:lnTo>
                  <a:lnTo>
                    <a:pt x="111" y="119"/>
                  </a:lnTo>
                  <a:lnTo>
                    <a:pt x="117" y="117"/>
                  </a:lnTo>
                  <a:lnTo>
                    <a:pt x="122" y="113"/>
                  </a:lnTo>
                  <a:lnTo>
                    <a:pt x="126" y="109"/>
                  </a:lnTo>
                  <a:lnTo>
                    <a:pt x="131" y="105"/>
                  </a:lnTo>
                  <a:lnTo>
                    <a:pt x="134" y="100"/>
                  </a:lnTo>
                  <a:lnTo>
                    <a:pt x="137" y="96"/>
                  </a:lnTo>
                  <a:lnTo>
                    <a:pt x="140" y="92"/>
                  </a:lnTo>
                  <a:lnTo>
                    <a:pt x="142" y="88"/>
                  </a:lnTo>
                  <a:lnTo>
                    <a:pt x="143" y="84"/>
                  </a:lnTo>
                  <a:lnTo>
                    <a:pt x="143" y="81"/>
                  </a:lnTo>
                  <a:lnTo>
                    <a:pt x="144" y="77"/>
                  </a:lnTo>
                  <a:lnTo>
                    <a:pt x="144" y="73"/>
                  </a:lnTo>
                  <a:lnTo>
                    <a:pt x="145" y="69"/>
                  </a:lnTo>
                  <a:lnTo>
                    <a:pt x="144" y="65"/>
                  </a:lnTo>
                  <a:lnTo>
                    <a:pt x="143" y="62"/>
                  </a:lnTo>
                  <a:lnTo>
                    <a:pt x="142" y="58"/>
                  </a:lnTo>
                  <a:lnTo>
                    <a:pt x="140" y="54"/>
                  </a:lnTo>
                  <a:lnTo>
                    <a:pt x="139" y="50"/>
                  </a:lnTo>
                  <a:lnTo>
                    <a:pt x="137" y="47"/>
                  </a:lnTo>
                  <a:lnTo>
                    <a:pt x="135" y="43"/>
                  </a:lnTo>
                  <a:lnTo>
                    <a:pt x="132" y="39"/>
                  </a:lnTo>
                  <a:lnTo>
                    <a:pt x="129" y="35"/>
                  </a:lnTo>
                  <a:lnTo>
                    <a:pt x="125" y="32"/>
                  </a:lnTo>
                  <a:lnTo>
                    <a:pt x="118" y="24"/>
                  </a:lnTo>
                  <a:lnTo>
                    <a:pt x="115" y="21"/>
                  </a:lnTo>
                  <a:lnTo>
                    <a:pt x="111" y="18"/>
                  </a:lnTo>
                  <a:lnTo>
                    <a:pt x="107" y="16"/>
                  </a:lnTo>
                  <a:lnTo>
                    <a:pt x="104" y="14"/>
                  </a:lnTo>
                  <a:lnTo>
                    <a:pt x="102" y="11"/>
                  </a:lnTo>
                  <a:lnTo>
                    <a:pt x="99" y="9"/>
                  </a:lnTo>
                  <a:lnTo>
                    <a:pt x="96" y="8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87" y="6"/>
                  </a:lnTo>
                  <a:lnTo>
                    <a:pt x="84" y="4"/>
                  </a:lnTo>
                  <a:lnTo>
                    <a:pt x="82" y="3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66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6" name="SMARTInkAnnotation2"/>
            <p:cNvSpPr/>
            <p:nvPr/>
          </p:nvSpPr>
          <p:spPr>
            <a:xfrm>
              <a:off x="6010200" y="1687680"/>
              <a:ext cx="223920" cy="250560"/>
            </a:xfrm>
            <a:custGeom>
              <a:avLst/>
              <a:gdLst/>
              <a:ahLst/>
              <a:rect l="l" t="t" r="r" b="b"/>
              <a:pathLst>
                <a:path w="141" h="158">
                  <a:moveTo>
                    <a:pt x="0" y="23"/>
                  </a:moveTo>
                  <a:lnTo>
                    <a:pt x="3" y="29"/>
                  </a:lnTo>
                  <a:lnTo>
                    <a:pt x="4" y="33"/>
                  </a:lnTo>
                  <a:lnTo>
                    <a:pt x="5" y="38"/>
                  </a:lnTo>
                  <a:lnTo>
                    <a:pt x="7" y="41"/>
                  </a:lnTo>
                  <a:lnTo>
                    <a:pt x="8" y="44"/>
                  </a:lnTo>
                  <a:lnTo>
                    <a:pt x="10" y="48"/>
                  </a:lnTo>
                  <a:lnTo>
                    <a:pt x="13" y="58"/>
                  </a:lnTo>
                  <a:lnTo>
                    <a:pt x="15" y="62"/>
                  </a:lnTo>
                  <a:lnTo>
                    <a:pt x="17" y="67"/>
                  </a:lnTo>
                  <a:lnTo>
                    <a:pt x="18" y="71"/>
                  </a:lnTo>
                  <a:lnTo>
                    <a:pt x="20" y="75"/>
                  </a:lnTo>
                  <a:lnTo>
                    <a:pt x="20" y="79"/>
                  </a:lnTo>
                  <a:lnTo>
                    <a:pt x="21" y="82"/>
                  </a:lnTo>
                  <a:lnTo>
                    <a:pt x="22" y="87"/>
                  </a:lnTo>
                  <a:lnTo>
                    <a:pt x="23" y="92"/>
                  </a:lnTo>
                  <a:lnTo>
                    <a:pt x="25" y="97"/>
                  </a:lnTo>
                  <a:lnTo>
                    <a:pt x="26" y="101"/>
                  </a:lnTo>
                  <a:lnTo>
                    <a:pt x="26" y="106"/>
                  </a:lnTo>
                  <a:lnTo>
                    <a:pt x="27" y="110"/>
                  </a:lnTo>
                  <a:lnTo>
                    <a:pt x="28" y="114"/>
                  </a:lnTo>
                  <a:lnTo>
                    <a:pt x="29" y="118"/>
                  </a:lnTo>
                  <a:lnTo>
                    <a:pt x="30" y="122"/>
                  </a:lnTo>
                  <a:lnTo>
                    <a:pt x="32" y="126"/>
                  </a:lnTo>
                  <a:lnTo>
                    <a:pt x="34" y="129"/>
                  </a:lnTo>
                  <a:lnTo>
                    <a:pt x="36" y="133"/>
                  </a:lnTo>
                  <a:lnTo>
                    <a:pt x="37" y="137"/>
                  </a:lnTo>
                  <a:lnTo>
                    <a:pt x="37" y="141"/>
                  </a:lnTo>
                  <a:lnTo>
                    <a:pt x="38" y="144"/>
                  </a:lnTo>
                  <a:lnTo>
                    <a:pt x="39" y="148"/>
                  </a:lnTo>
                  <a:lnTo>
                    <a:pt x="40" y="150"/>
                  </a:lnTo>
                  <a:lnTo>
                    <a:pt x="45" y="157"/>
                  </a:lnTo>
                  <a:lnTo>
                    <a:pt x="45" y="153"/>
                  </a:lnTo>
                  <a:lnTo>
                    <a:pt x="45" y="141"/>
                  </a:lnTo>
                  <a:lnTo>
                    <a:pt x="44" y="138"/>
                  </a:lnTo>
                  <a:lnTo>
                    <a:pt x="43" y="135"/>
                  </a:lnTo>
                  <a:lnTo>
                    <a:pt x="42" y="131"/>
                  </a:lnTo>
                  <a:lnTo>
                    <a:pt x="41" y="127"/>
                  </a:lnTo>
                  <a:lnTo>
                    <a:pt x="40" y="124"/>
                  </a:lnTo>
                  <a:lnTo>
                    <a:pt x="40" y="120"/>
                  </a:lnTo>
                  <a:lnTo>
                    <a:pt x="39" y="116"/>
                  </a:lnTo>
                  <a:lnTo>
                    <a:pt x="38" y="113"/>
                  </a:lnTo>
                  <a:lnTo>
                    <a:pt x="36" y="109"/>
                  </a:lnTo>
                  <a:lnTo>
                    <a:pt x="35" y="104"/>
                  </a:lnTo>
                  <a:lnTo>
                    <a:pt x="35" y="100"/>
                  </a:lnTo>
                  <a:lnTo>
                    <a:pt x="34" y="95"/>
                  </a:lnTo>
                  <a:lnTo>
                    <a:pt x="34" y="90"/>
                  </a:lnTo>
                  <a:lnTo>
                    <a:pt x="34" y="82"/>
                  </a:lnTo>
                  <a:lnTo>
                    <a:pt x="33" y="67"/>
                  </a:lnTo>
                  <a:lnTo>
                    <a:pt x="35" y="62"/>
                  </a:lnTo>
                  <a:lnTo>
                    <a:pt x="37" y="58"/>
                  </a:lnTo>
                  <a:lnTo>
                    <a:pt x="39" y="53"/>
                  </a:lnTo>
                  <a:lnTo>
                    <a:pt x="42" y="49"/>
                  </a:lnTo>
                  <a:lnTo>
                    <a:pt x="44" y="46"/>
                  </a:lnTo>
                  <a:lnTo>
                    <a:pt x="46" y="42"/>
                  </a:lnTo>
                  <a:lnTo>
                    <a:pt x="49" y="38"/>
                  </a:lnTo>
                  <a:lnTo>
                    <a:pt x="52" y="34"/>
                  </a:lnTo>
                  <a:lnTo>
                    <a:pt x="55" y="30"/>
                  </a:lnTo>
                  <a:lnTo>
                    <a:pt x="59" y="26"/>
                  </a:lnTo>
                  <a:lnTo>
                    <a:pt x="64" y="23"/>
                  </a:lnTo>
                  <a:lnTo>
                    <a:pt x="69" y="19"/>
                  </a:lnTo>
                  <a:lnTo>
                    <a:pt x="73" y="16"/>
                  </a:lnTo>
                  <a:lnTo>
                    <a:pt x="77" y="13"/>
                  </a:lnTo>
                  <a:lnTo>
                    <a:pt x="81" y="11"/>
                  </a:lnTo>
                  <a:lnTo>
                    <a:pt x="86" y="9"/>
                  </a:lnTo>
                  <a:lnTo>
                    <a:pt x="91" y="8"/>
                  </a:lnTo>
                  <a:lnTo>
                    <a:pt x="96" y="7"/>
                  </a:lnTo>
                  <a:lnTo>
                    <a:pt x="101" y="6"/>
                  </a:lnTo>
                  <a:lnTo>
                    <a:pt x="105" y="5"/>
                  </a:lnTo>
                  <a:lnTo>
                    <a:pt x="109" y="3"/>
                  </a:lnTo>
                  <a:lnTo>
                    <a:pt x="113" y="2"/>
                  </a:lnTo>
                  <a:lnTo>
                    <a:pt x="117" y="1"/>
                  </a:lnTo>
                  <a:lnTo>
                    <a:pt x="121" y="1"/>
                  </a:lnTo>
                  <a:lnTo>
                    <a:pt x="124" y="1"/>
                  </a:lnTo>
                  <a:lnTo>
                    <a:pt x="127" y="1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40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7" name="SMARTInkAnnotation3"/>
            <p:cNvSpPr/>
            <p:nvPr/>
          </p:nvSpPr>
          <p:spPr>
            <a:xfrm>
              <a:off x="6402240" y="1687680"/>
              <a:ext cx="466920" cy="44604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146" y="28"/>
                  </a:moveTo>
                  <a:lnTo>
                    <a:pt x="151" y="19"/>
                  </a:lnTo>
                  <a:lnTo>
                    <a:pt x="152" y="16"/>
                  </a:lnTo>
                  <a:lnTo>
                    <a:pt x="152" y="14"/>
                  </a:lnTo>
                  <a:lnTo>
                    <a:pt x="151" y="13"/>
                  </a:lnTo>
                  <a:lnTo>
                    <a:pt x="150" y="13"/>
                  </a:lnTo>
                  <a:lnTo>
                    <a:pt x="149" y="12"/>
                  </a:lnTo>
                  <a:lnTo>
                    <a:pt x="144" y="9"/>
                  </a:lnTo>
                  <a:lnTo>
                    <a:pt x="139" y="4"/>
                  </a:lnTo>
                  <a:lnTo>
                    <a:pt x="136" y="2"/>
                  </a:lnTo>
                  <a:lnTo>
                    <a:pt x="130" y="1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4" y="0"/>
                  </a:lnTo>
                  <a:lnTo>
                    <a:pt x="99" y="1"/>
                  </a:lnTo>
                  <a:lnTo>
                    <a:pt x="94" y="2"/>
                  </a:lnTo>
                  <a:lnTo>
                    <a:pt x="89" y="3"/>
                  </a:lnTo>
                  <a:lnTo>
                    <a:pt x="84" y="5"/>
                  </a:lnTo>
                  <a:lnTo>
                    <a:pt x="73" y="8"/>
                  </a:lnTo>
                  <a:lnTo>
                    <a:pt x="56" y="13"/>
                  </a:lnTo>
                  <a:lnTo>
                    <a:pt x="51" y="15"/>
                  </a:lnTo>
                  <a:lnTo>
                    <a:pt x="42" y="19"/>
                  </a:lnTo>
                  <a:lnTo>
                    <a:pt x="34" y="24"/>
                  </a:lnTo>
                  <a:lnTo>
                    <a:pt x="27" y="30"/>
                  </a:lnTo>
                  <a:lnTo>
                    <a:pt x="19" y="35"/>
                  </a:lnTo>
                  <a:lnTo>
                    <a:pt x="13" y="41"/>
                  </a:lnTo>
                  <a:lnTo>
                    <a:pt x="8" y="48"/>
                  </a:lnTo>
                  <a:lnTo>
                    <a:pt x="4" y="55"/>
                  </a:lnTo>
                  <a:lnTo>
                    <a:pt x="2" y="60"/>
                  </a:lnTo>
                  <a:lnTo>
                    <a:pt x="1" y="67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3" y="75"/>
                  </a:lnTo>
                  <a:lnTo>
                    <a:pt x="8" y="79"/>
                  </a:lnTo>
                  <a:lnTo>
                    <a:pt x="14" y="82"/>
                  </a:lnTo>
                  <a:lnTo>
                    <a:pt x="18" y="83"/>
                  </a:lnTo>
                  <a:lnTo>
                    <a:pt x="26" y="84"/>
                  </a:lnTo>
                  <a:lnTo>
                    <a:pt x="30" y="84"/>
                  </a:lnTo>
                  <a:lnTo>
                    <a:pt x="39" y="83"/>
                  </a:lnTo>
                  <a:lnTo>
                    <a:pt x="74" y="71"/>
                  </a:lnTo>
                  <a:lnTo>
                    <a:pt x="79" y="69"/>
                  </a:lnTo>
                  <a:lnTo>
                    <a:pt x="85" y="66"/>
                  </a:lnTo>
                  <a:lnTo>
                    <a:pt x="95" y="60"/>
                  </a:lnTo>
                  <a:lnTo>
                    <a:pt x="104" y="55"/>
                  </a:lnTo>
                  <a:lnTo>
                    <a:pt x="112" y="49"/>
                  </a:lnTo>
                  <a:lnTo>
                    <a:pt x="120" y="43"/>
                  </a:lnTo>
                  <a:lnTo>
                    <a:pt x="128" y="38"/>
                  </a:lnTo>
                  <a:lnTo>
                    <a:pt x="136" y="32"/>
                  </a:lnTo>
                  <a:lnTo>
                    <a:pt x="145" y="24"/>
                  </a:lnTo>
                  <a:lnTo>
                    <a:pt x="145" y="24"/>
                  </a:lnTo>
                  <a:lnTo>
                    <a:pt x="146" y="23"/>
                  </a:lnTo>
                  <a:lnTo>
                    <a:pt x="151" y="23"/>
                  </a:lnTo>
                  <a:lnTo>
                    <a:pt x="151" y="23"/>
                  </a:lnTo>
                  <a:lnTo>
                    <a:pt x="152" y="27"/>
                  </a:lnTo>
                  <a:lnTo>
                    <a:pt x="152" y="30"/>
                  </a:lnTo>
                  <a:lnTo>
                    <a:pt x="150" y="36"/>
                  </a:lnTo>
                  <a:lnTo>
                    <a:pt x="148" y="42"/>
                  </a:lnTo>
                  <a:lnTo>
                    <a:pt x="147" y="49"/>
                  </a:lnTo>
                  <a:lnTo>
                    <a:pt x="147" y="57"/>
                  </a:lnTo>
                  <a:lnTo>
                    <a:pt x="146" y="65"/>
                  </a:lnTo>
                  <a:lnTo>
                    <a:pt x="145" y="69"/>
                  </a:lnTo>
                  <a:lnTo>
                    <a:pt x="143" y="74"/>
                  </a:lnTo>
                  <a:lnTo>
                    <a:pt x="143" y="80"/>
                  </a:lnTo>
                  <a:lnTo>
                    <a:pt x="142" y="85"/>
                  </a:lnTo>
                  <a:lnTo>
                    <a:pt x="142" y="90"/>
                  </a:lnTo>
                  <a:lnTo>
                    <a:pt x="141" y="97"/>
                  </a:lnTo>
                  <a:lnTo>
                    <a:pt x="141" y="110"/>
                  </a:lnTo>
                  <a:lnTo>
                    <a:pt x="140" y="117"/>
                  </a:lnTo>
                  <a:lnTo>
                    <a:pt x="139" y="124"/>
                  </a:lnTo>
                  <a:lnTo>
                    <a:pt x="138" y="132"/>
                  </a:lnTo>
                  <a:lnTo>
                    <a:pt x="138" y="138"/>
                  </a:lnTo>
                  <a:lnTo>
                    <a:pt x="138" y="145"/>
                  </a:lnTo>
                  <a:lnTo>
                    <a:pt x="139" y="151"/>
                  </a:lnTo>
                  <a:lnTo>
                    <a:pt x="140" y="158"/>
                  </a:lnTo>
                  <a:lnTo>
                    <a:pt x="140" y="164"/>
                  </a:lnTo>
                  <a:lnTo>
                    <a:pt x="140" y="172"/>
                  </a:lnTo>
                  <a:lnTo>
                    <a:pt x="141" y="178"/>
                  </a:lnTo>
                  <a:lnTo>
                    <a:pt x="142" y="184"/>
                  </a:lnTo>
                  <a:lnTo>
                    <a:pt x="144" y="191"/>
                  </a:lnTo>
                  <a:lnTo>
                    <a:pt x="145" y="196"/>
                  </a:lnTo>
                  <a:lnTo>
                    <a:pt x="147" y="202"/>
                  </a:lnTo>
                  <a:lnTo>
                    <a:pt x="149" y="208"/>
                  </a:lnTo>
                  <a:lnTo>
                    <a:pt x="151" y="214"/>
                  </a:lnTo>
                  <a:lnTo>
                    <a:pt x="154" y="219"/>
                  </a:lnTo>
                  <a:lnTo>
                    <a:pt x="157" y="225"/>
                  </a:lnTo>
                  <a:lnTo>
                    <a:pt x="160" y="231"/>
                  </a:lnTo>
                  <a:lnTo>
                    <a:pt x="167" y="242"/>
                  </a:lnTo>
                  <a:lnTo>
                    <a:pt x="175" y="250"/>
                  </a:lnTo>
                  <a:lnTo>
                    <a:pt x="182" y="256"/>
                  </a:lnTo>
                  <a:lnTo>
                    <a:pt x="190" y="263"/>
                  </a:lnTo>
                  <a:lnTo>
                    <a:pt x="195" y="266"/>
                  </a:lnTo>
                  <a:lnTo>
                    <a:pt x="200" y="269"/>
                  </a:lnTo>
                  <a:lnTo>
                    <a:pt x="213" y="273"/>
                  </a:lnTo>
                  <a:lnTo>
                    <a:pt x="225" y="277"/>
                  </a:lnTo>
                  <a:lnTo>
                    <a:pt x="230" y="279"/>
                  </a:lnTo>
                  <a:lnTo>
                    <a:pt x="236" y="280"/>
                  </a:lnTo>
                  <a:lnTo>
                    <a:pt x="242" y="280"/>
                  </a:lnTo>
                  <a:lnTo>
                    <a:pt x="248" y="280"/>
                  </a:lnTo>
                  <a:lnTo>
                    <a:pt x="253" y="279"/>
                  </a:lnTo>
                  <a:lnTo>
                    <a:pt x="259" y="278"/>
                  </a:lnTo>
                  <a:lnTo>
                    <a:pt x="272" y="275"/>
                  </a:lnTo>
                  <a:lnTo>
                    <a:pt x="293" y="27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8" name="SMARTInkAnnotation4"/>
            <p:cNvSpPr/>
            <p:nvPr/>
          </p:nvSpPr>
          <p:spPr>
            <a:xfrm>
              <a:off x="6966000" y="1687680"/>
              <a:ext cx="268200" cy="19836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5" y="0"/>
                  </a:moveTo>
                  <a:lnTo>
                    <a:pt x="5" y="9"/>
                  </a:lnTo>
                  <a:lnTo>
                    <a:pt x="5" y="10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1" y="19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44"/>
                  </a:lnTo>
                  <a:lnTo>
                    <a:pt x="0" y="74"/>
                  </a:lnTo>
                  <a:lnTo>
                    <a:pt x="0" y="79"/>
                  </a:lnTo>
                  <a:lnTo>
                    <a:pt x="1" y="83"/>
                  </a:lnTo>
                  <a:lnTo>
                    <a:pt x="2" y="87"/>
                  </a:lnTo>
                  <a:lnTo>
                    <a:pt x="4" y="91"/>
                  </a:lnTo>
                  <a:lnTo>
                    <a:pt x="6" y="94"/>
                  </a:lnTo>
                  <a:lnTo>
                    <a:pt x="7" y="96"/>
                  </a:lnTo>
                  <a:lnTo>
                    <a:pt x="10" y="99"/>
                  </a:lnTo>
                  <a:lnTo>
                    <a:pt x="13" y="102"/>
                  </a:lnTo>
                  <a:lnTo>
                    <a:pt x="16" y="106"/>
                  </a:lnTo>
                  <a:lnTo>
                    <a:pt x="19" y="109"/>
                  </a:lnTo>
                  <a:lnTo>
                    <a:pt x="23" y="111"/>
                  </a:lnTo>
                  <a:lnTo>
                    <a:pt x="26" y="114"/>
                  </a:lnTo>
                  <a:lnTo>
                    <a:pt x="30" y="116"/>
                  </a:lnTo>
                  <a:lnTo>
                    <a:pt x="35" y="118"/>
                  </a:lnTo>
                  <a:lnTo>
                    <a:pt x="40" y="120"/>
                  </a:lnTo>
                  <a:lnTo>
                    <a:pt x="45" y="121"/>
                  </a:lnTo>
                  <a:lnTo>
                    <a:pt x="51" y="122"/>
                  </a:lnTo>
                  <a:lnTo>
                    <a:pt x="56" y="123"/>
                  </a:lnTo>
                  <a:lnTo>
                    <a:pt x="62" y="123"/>
                  </a:lnTo>
                  <a:lnTo>
                    <a:pt x="67" y="123"/>
                  </a:lnTo>
                  <a:lnTo>
                    <a:pt x="73" y="124"/>
                  </a:lnTo>
                  <a:lnTo>
                    <a:pt x="78" y="123"/>
                  </a:lnTo>
                  <a:lnTo>
                    <a:pt x="84" y="122"/>
                  </a:lnTo>
                  <a:lnTo>
                    <a:pt x="96" y="119"/>
                  </a:lnTo>
                  <a:lnTo>
                    <a:pt x="109" y="116"/>
                  </a:lnTo>
                  <a:lnTo>
                    <a:pt x="115" y="114"/>
                  </a:lnTo>
                  <a:lnTo>
                    <a:pt x="120" y="112"/>
                  </a:lnTo>
                  <a:lnTo>
                    <a:pt x="125" y="111"/>
                  </a:lnTo>
                  <a:lnTo>
                    <a:pt x="130" y="108"/>
                  </a:lnTo>
                  <a:lnTo>
                    <a:pt x="135" y="105"/>
                  </a:lnTo>
                  <a:lnTo>
                    <a:pt x="141" y="102"/>
                  </a:lnTo>
                  <a:lnTo>
                    <a:pt x="145" y="99"/>
                  </a:lnTo>
                  <a:lnTo>
                    <a:pt x="150" y="95"/>
                  </a:lnTo>
                  <a:lnTo>
                    <a:pt x="154" y="92"/>
                  </a:lnTo>
                  <a:lnTo>
                    <a:pt x="158" y="88"/>
                  </a:lnTo>
                  <a:lnTo>
                    <a:pt x="161" y="84"/>
                  </a:lnTo>
                  <a:lnTo>
                    <a:pt x="163" y="81"/>
                  </a:lnTo>
                  <a:lnTo>
                    <a:pt x="165" y="77"/>
                  </a:lnTo>
                  <a:lnTo>
                    <a:pt x="166" y="73"/>
                  </a:lnTo>
                  <a:lnTo>
                    <a:pt x="167" y="69"/>
                  </a:lnTo>
                  <a:lnTo>
                    <a:pt x="167" y="66"/>
                  </a:lnTo>
                  <a:lnTo>
                    <a:pt x="168" y="62"/>
                  </a:lnTo>
                  <a:lnTo>
                    <a:pt x="168" y="58"/>
                  </a:lnTo>
                  <a:lnTo>
                    <a:pt x="168" y="51"/>
                  </a:lnTo>
                  <a:lnTo>
                    <a:pt x="168" y="47"/>
                  </a:lnTo>
                  <a:lnTo>
                    <a:pt x="167" y="43"/>
                  </a:lnTo>
                  <a:lnTo>
                    <a:pt x="165" y="39"/>
                  </a:lnTo>
                  <a:lnTo>
                    <a:pt x="162" y="36"/>
                  </a:lnTo>
                  <a:lnTo>
                    <a:pt x="160" y="33"/>
                  </a:lnTo>
                  <a:lnTo>
                    <a:pt x="158" y="30"/>
                  </a:lnTo>
                  <a:lnTo>
                    <a:pt x="156" y="27"/>
                  </a:lnTo>
                  <a:lnTo>
                    <a:pt x="154" y="25"/>
                  </a:lnTo>
                  <a:lnTo>
                    <a:pt x="153" y="23"/>
                  </a:lnTo>
                  <a:lnTo>
                    <a:pt x="151" y="17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59" name="SMARTInkAnnotation5"/>
            <p:cNvSpPr/>
            <p:nvPr/>
          </p:nvSpPr>
          <p:spPr>
            <a:xfrm>
              <a:off x="7402680" y="1617840"/>
              <a:ext cx="385560" cy="303120"/>
            </a:xfrm>
            <a:custGeom>
              <a:avLst/>
              <a:gdLst/>
              <a:ahLst/>
              <a:rect l="l" t="t" r="r" b="b"/>
              <a:pathLst>
                <a:path w="243" h="191">
                  <a:moveTo>
                    <a:pt x="0" y="95"/>
                  </a:moveTo>
                  <a:lnTo>
                    <a:pt x="12" y="98"/>
                  </a:lnTo>
                  <a:lnTo>
                    <a:pt x="20" y="99"/>
                  </a:lnTo>
                  <a:lnTo>
                    <a:pt x="27" y="100"/>
                  </a:lnTo>
                  <a:lnTo>
                    <a:pt x="38" y="100"/>
                  </a:lnTo>
                  <a:lnTo>
                    <a:pt x="76" y="100"/>
                  </a:lnTo>
                  <a:lnTo>
                    <a:pt x="83" y="100"/>
                  </a:lnTo>
                  <a:lnTo>
                    <a:pt x="89" y="99"/>
                  </a:lnTo>
                  <a:lnTo>
                    <a:pt x="95" y="97"/>
                  </a:lnTo>
                  <a:lnTo>
                    <a:pt x="100" y="96"/>
                  </a:lnTo>
                  <a:lnTo>
                    <a:pt x="105" y="94"/>
                  </a:lnTo>
                  <a:lnTo>
                    <a:pt x="109" y="93"/>
                  </a:lnTo>
                  <a:lnTo>
                    <a:pt x="114" y="90"/>
                  </a:lnTo>
                  <a:lnTo>
                    <a:pt x="119" y="87"/>
                  </a:lnTo>
                  <a:lnTo>
                    <a:pt x="125" y="84"/>
                  </a:lnTo>
                  <a:lnTo>
                    <a:pt x="129" y="81"/>
                  </a:lnTo>
                  <a:lnTo>
                    <a:pt x="132" y="77"/>
                  </a:lnTo>
                  <a:lnTo>
                    <a:pt x="135" y="74"/>
                  </a:lnTo>
                  <a:lnTo>
                    <a:pt x="138" y="70"/>
                  </a:lnTo>
                  <a:lnTo>
                    <a:pt x="140" y="66"/>
                  </a:lnTo>
                  <a:lnTo>
                    <a:pt x="142" y="63"/>
                  </a:lnTo>
                  <a:lnTo>
                    <a:pt x="143" y="59"/>
                  </a:lnTo>
                  <a:lnTo>
                    <a:pt x="144" y="55"/>
                  </a:lnTo>
                  <a:lnTo>
                    <a:pt x="145" y="52"/>
                  </a:lnTo>
                  <a:lnTo>
                    <a:pt x="146" y="46"/>
                  </a:lnTo>
                  <a:lnTo>
                    <a:pt x="146" y="43"/>
                  </a:lnTo>
                  <a:lnTo>
                    <a:pt x="145" y="40"/>
                  </a:lnTo>
                  <a:lnTo>
                    <a:pt x="145" y="37"/>
                  </a:lnTo>
                  <a:lnTo>
                    <a:pt x="143" y="34"/>
                  </a:lnTo>
                  <a:lnTo>
                    <a:pt x="141" y="30"/>
                  </a:lnTo>
                  <a:lnTo>
                    <a:pt x="139" y="27"/>
                  </a:lnTo>
                  <a:lnTo>
                    <a:pt x="136" y="23"/>
                  </a:lnTo>
                  <a:lnTo>
                    <a:pt x="131" y="18"/>
                  </a:lnTo>
                  <a:lnTo>
                    <a:pt x="126" y="13"/>
                  </a:lnTo>
                  <a:lnTo>
                    <a:pt x="119" y="9"/>
                  </a:lnTo>
                  <a:lnTo>
                    <a:pt x="115" y="7"/>
                  </a:lnTo>
                  <a:lnTo>
                    <a:pt x="111" y="5"/>
                  </a:lnTo>
                  <a:lnTo>
                    <a:pt x="106" y="3"/>
                  </a:lnTo>
                  <a:lnTo>
                    <a:pt x="101" y="2"/>
                  </a:lnTo>
                  <a:lnTo>
                    <a:pt x="97" y="1"/>
                  </a:lnTo>
                  <a:lnTo>
                    <a:pt x="93" y="0"/>
                  </a:lnTo>
                  <a:lnTo>
                    <a:pt x="88" y="1"/>
                  </a:lnTo>
                  <a:lnTo>
                    <a:pt x="83" y="1"/>
                  </a:lnTo>
                  <a:lnTo>
                    <a:pt x="78" y="2"/>
                  </a:lnTo>
                  <a:lnTo>
                    <a:pt x="73" y="4"/>
                  </a:lnTo>
                  <a:lnTo>
                    <a:pt x="67" y="5"/>
                  </a:lnTo>
                  <a:lnTo>
                    <a:pt x="56" y="9"/>
                  </a:lnTo>
                  <a:lnTo>
                    <a:pt x="45" y="12"/>
                  </a:lnTo>
                  <a:lnTo>
                    <a:pt x="40" y="15"/>
                  </a:lnTo>
                  <a:lnTo>
                    <a:pt x="36" y="18"/>
                  </a:lnTo>
                  <a:lnTo>
                    <a:pt x="31" y="21"/>
                  </a:lnTo>
                  <a:lnTo>
                    <a:pt x="27" y="24"/>
                  </a:lnTo>
                  <a:lnTo>
                    <a:pt x="23" y="28"/>
                  </a:lnTo>
                  <a:lnTo>
                    <a:pt x="19" y="31"/>
                  </a:lnTo>
                  <a:lnTo>
                    <a:pt x="16" y="35"/>
                  </a:lnTo>
                  <a:lnTo>
                    <a:pt x="13" y="39"/>
                  </a:lnTo>
                  <a:lnTo>
                    <a:pt x="11" y="42"/>
                  </a:lnTo>
                  <a:lnTo>
                    <a:pt x="9" y="47"/>
                  </a:lnTo>
                  <a:lnTo>
                    <a:pt x="8" y="51"/>
                  </a:lnTo>
                  <a:lnTo>
                    <a:pt x="7" y="57"/>
                  </a:lnTo>
                  <a:lnTo>
                    <a:pt x="7" y="61"/>
                  </a:lnTo>
                  <a:lnTo>
                    <a:pt x="6" y="65"/>
                  </a:lnTo>
                  <a:lnTo>
                    <a:pt x="6" y="70"/>
                  </a:lnTo>
                  <a:lnTo>
                    <a:pt x="7" y="74"/>
                  </a:lnTo>
                  <a:lnTo>
                    <a:pt x="8" y="79"/>
                  </a:lnTo>
                  <a:lnTo>
                    <a:pt x="9" y="84"/>
                  </a:lnTo>
                  <a:lnTo>
                    <a:pt x="11" y="89"/>
                  </a:lnTo>
                  <a:lnTo>
                    <a:pt x="14" y="93"/>
                  </a:lnTo>
                  <a:lnTo>
                    <a:pt x="17" y="98"/>
                  </a:lnTo>
                  <a:lnTo>
                    <a:pt x="20" y="102"/>
                  </a:lnTo>
                  <a:lnTo>
                    <a:pt x="25" y="107"/>
                  </a:lnTo>
                  <a:lnTo>
                    <a:pt x="30" y="112"/>
                  </a:lnTo>
                  <a:lnTo>
                    <a:pt x="36" y="117"/>
                  </a:lnTo>
                  <a:lnTo>
                    <a:pt x="42" y="122"/>
                  </a:lnTo>
                  <a:lnTo>
                    <a:pt x="49" y="126"/>
                  </a:lnTo>
                  <a:lnTo>
                    <a:pt x="56" y="130"/>
                  </a:lnTo>
                  <a:lnTo>
                    <a:pt x="70" y="138"/>
                  </a:lnTo>
                  <a:lnTo>
                    <a:pt x="78" y="141"/>
                  </a:lnTo>
                  <a:lnTo>
                    <a:pt x="86" y="145"/>
                  </a:lnTo>
                  <a:lnTo>
                    <a:pt x="95" y="149"/>
                  </a:lnTo>
                  <a:lnTo>
                    <a:pt x="104" y="152"/>
                  </a:lnTo>
                  <a:lnTo>
                    <a:pt x="113" y="155"/>
                  </a:lnTo>
                  <a:lnTo>
                    <a:pt x="122" y="157"/>
                  </a:lnTo>
                  <a:lnTo>
                    <a:pt x="132" y="160"/>
                  </a:lnTo>
                  <a:lnTo>
                    <a:pt x="141" y="163"/>
                  </a:lnTo>
                  <a:lnTo>
                    <a:pt x="150" y="167"/>
                  </a:lnTo>
                  <a:lnTo>
                    <a:pt x="159" y="170"/>
                  </a:lnTo>
                  <a:lnTo>
                    <a:pt x="167" y="172"/>
                  </a:lnTo>
                  <a:lnTo>
                    <a:pt x="183" y="177"/>
                  </a:lnTo>
                  <a:lnTo>
                    <a:pt x="206" y="183"/>
                  </a:lnTo>
                  <a:lnTo>
                    <a:pt x="218" y="187"/>
                  </a:lnTo>
                  <a:lnTo>
                    <a:pt x="224" y="188"/>
                  </a:lnTo>
                  <a:lnTo>
                    <a:pt x="229" y="189"/>
                  </a:lnTo>
                  <a:lnTo>
                    <a:pt x="242" y="19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65E8-DB9A-4309-BD87-A78CE47BA79C}" type="slidenum">
              <a:t>3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7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586728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Pero, ¿</a:t>
            </a:r>
            <a:r>
              <a:rPr b="0" lang="en-US" sz="4400" spc="-1" strike="noStrike" u="sng">
                <a:solidFill>
                  <a:srgbClr val="003366"/>
                </a:solidFill>
                <a:uFillTx/>
                <a:latin typeface="Comic Sans MS"/>
              </a:rPr>
              <a:t>qué significan</a:t>
            </a: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4038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Quién? / ¿Quién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l? / ¿Cuáles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óm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do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Cuánto? (a / os / as)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Dónde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¿Por qué?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0840" y="392040"/>
            <a:ext cx="8764560" cy="1284120"/>
            <a:chOff x="150840" y="392040"/>
            <a:chExt cx="8764560" cy="12841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150840" y="393840"/>
              <a:ext cx="1371600" cy="1280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4" name=""/>
            <p:cNvGrpSpPr/>
            <p:nvPr/>
          </p:nvGrpSpPr>
          <p:grpSpPr>
            <a:xfrm>
              <a:off x="7543080" y="392040"/>
              <a:ext cx="1372320" cy="1284120"/>
              <a:chOff x="7543080" y="392040"/>
              <a:chExt cx="1372320" cy="12841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7543080" y="980640"/>
                <a:ext cx="726480" cy="589320"/>
                <a:chOff x="7543080" y="980640"/>
                <a:chExt cx="726480" cy="589320"/>
              </a:xfrm>
            </p:grpSpPr>
            <p:sp>
              <p:nvSpPr>
                <p:cNvPr id="166" name=""/>
                <p:cNvSpPr/>
                <p:nvPr/>
              </p:nvSpPr>
              <p:spPr>
                <a:xfrm flipH="1">
                  <a:off x="7651080" y="1270440"/>
                  <a:ext cx="477000" cy="294120"/>
                </a:xfrm>
                <a:custGeom>
                  <a:avLst/>
                  <a:gdLst/>
                  <a:ahLst/>
                  <a:rect l="l" t="t" r="r" b="b"/>
                  <a:pathLst>
                    <a:path w="1000" h="619">
                      <a:moveTo>
                        <a:pt x="0" y="137"/>
                      </a:moveTo>
                      <a:lnTo>
                        <a:pt x="2" y="383"/>
                      </a:lnTo>
                      <a:lnTo>
                        <a:pt x="114" y="472"/>
                      </a:lnTo>
                      <a:lnTo>
                        <a:pt x="226" y="530"/>
                      </a:lnTo>
                      <a:lnTo>
                        <a:pt x="402" y="619"/>
                      </a:lnTo>
                      <a:lnTo>
                        <a:pt x="609" y="483"/>
                      </a:lnTo>
                      <a:lnTo>
                        <a:pt x="832" y="312"/>
                      </a:lnTo>
                      <a:lnTo>
                        <a:pt x="991" y="194"/>
                      </a:lnTo>
                      <a:lnTo>
                        <a:pt x="1000" y="0"/>
                      </a:lnTo>
                      <a:lnTo>
                        <a:pt x="886" y="72"/>
                      </a:lnTo>
                      <a:lnTo>
                        <a:pt x="774" y="150"/>
                      </a:lnTo>
                      <a:lnTo>
                        <a:pt x="646" y="247"/>
                      </a:lnTo>
                      <a:lnTo>
                        <a:pt x="407" y="118"/>
                      </a:lnTo>
                      <a:lnTo>
                        <a:pt x="313" y="161"/>
                      </a:lnTo>
                      <a:lnTo>
                        <a:pt x="152" y="223"/>
                      </a:lnTo>
                      <a:lnTo>
                        <a:pt x="0" y="137"/>
                      </a:lnTo>
                      <a:close/>
                    </a:path>
                  </a:pathLst>
                </a:custGeom>
                <a:solidFill>
                  <a:srgbClr val="ac82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7550640" y="989280"/>
                  <a:ext cx="709560" cy="397800"/>
                  <a:chOff x="7550640" y="989280"/>
                  <a:chExt cx="709560" cy="39780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7929000" y="1181880"/>
                    <a:ext cx="3312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8" h="415">
                        <a:moveTo>
                          <a:pt x="267" y="0"/>
                        </a:moveTo>
                        <a:lnTo>
                          <a:pt x="0" y="170"/>
                        </a:lnTo>
                        <a:lnTo>
                          <a:pt x="162" y="251"/>
                        </a:lnTo>
                        <a:lnTo>
                          <a:pt x="297" y="316"/>
                        </a:lnTo>
                        <a:lnTo>
                          <a:pt x="436" y="415"/>
                        </a:lnTo>
                        <a:lnTo>
                          <a:pt x="698" y="291"/>
                        </a:lnTo>
                        <a:lnTo>
                          <a:pt x="525" y="194"/>
                        </a:lnTo>
                        <a:lnTo>
                          <a:pt x="385" y="97"/>
                        </a:lnTo>
                        <a:lnTo>
                          <a:pt x="267" y="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 flipH="1">
                    <a:off x="7550280" y="1147320"/>
                    <a:ext cx="3754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88" h="504">
                        <a:moveTo>
                          <a:pt x="0" y="368"/>
                        </a:moveTo>
                        <a:lnTo>
                          <a:pt x="216" y="232"/>
                        </a:lnTo>
                        <a:lnTo>
                          <a:pt x="371" y="149"/>
                        </a:lnTo>
                        <a:lnTo>
                          <a:pt x="484" y="62"/>
                        </a:lnTo>
                        <a:lnTo>
                          <a:pt x="563" y="0"/>
                        </a:lnTo>
                        <a:lnTo>
                          <a:pt x="729" y="64"/>
                        </a:lnTo>
                        <a:lnTo>
                          <a:pt x="788" y="93"/>
                        </a:lnTo>
                        <a:lnTo>
                          <a:pt x="705" y="176"/>
                        </a:lnTo>
                        <a:lnTo>
                          <a:pt x="553" y="269"/>
                        </a:lnTo>
                        <a:lnTo>
                          <a:pt x="411" y="357"/>
                        </a:lnTo>
                        <a:lnTo>
                          <a:pt x="288" y="453"/>
                        </a:lnTo>
                        <a:lnTo>
                          <a:pt x="216" y="504"/>
                        </a:lnTo>
                        <a:lnTo>
                          <a:pt x="16" y="399"/>
                        </a:lnTo>
                        <a:lnTo>
                          <a:pt x="0" y="368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 flipH="1">
                    <a:off x="7817760" y="1040400"/>
                    <a:ext cx="388080" cy="141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295">
                        <a:moveTo>
                          <a:pt x="160" y="295"/>
                        </a:moveTo>
                        <a:lnTo>
                          <a:pt x="390" y="181"/>
                        </a:lnTo>
                        <a:lnTo>
                          <a:pt x="600" y="88"/>
                        </a:lnTo>
                        <a:lnTo>
                          <a:pt x="817" y="9"/>
                        </a:lnTo>
                        <a:lnTo>
                          <a:pt x="593" y="0"/>
                        </a:lnTo>
                        <a:lnTo>
                          <a:pt x="480" y="46"/>
                        </a:lnTo>
                        <a:lnTo>
                          <a:pt x="272" y="112"/>
                        </a:lnTo>
                        <a:lnTo>
                          <a:pt x="150" y="162"/>
                        </a:lnTo>
                        <a:lnTo>
                          <a:pt x="0" y="252"/>
                        </a:lnTo>
                        <a:lnTo>
                          <a:pt x="160" y="295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>
                    <a:off x="7585200" y="989280"/>
                    <a:ext cx="2325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7" h="346">
                        <a:moveTo>
                          <a:pt x="0" y="130"/>
                        </a:moveTo>
                        <a:lnTo>
                          <a:pt x="194" y="251"/>
                        </a:lnTo>
                        <a:lnTo>
                          <a:pt x="331" y="346"/>
                        </a:lnTo>
                        <a:lnTo>
                          <a:pt x="487" y="240"/>
                        </a:lnTo>
                        <a:lnTo>
                          <a:pt x="228" y="95"/>
                        </a:lnTo>
                        <a:lnTo>
                          <a:pt x="80" y="0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caa87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 flipH="1">
                    <a:off x="7654320" y="1047240"/>
                    <a:ext cx="484200" cy="276840"/>
                  </a:xfrm>
                  <a:custGeom>
                    <a:avLst/>
                    <a:gdLst/>
                    <a:ahLst/>
                    <a:rect l="l" t="t" r="r" b="b"/>
                    <a:pathLst>
                      <a:path w="1018" h="581">
                        <a:moveTo>
                          <a:pt x="29" y="283"/>
                        </a:moveTo>
                        <a:lnTo>
                          <a:pt x="143" y="396"/>
                        </a:lnTo>
                        <a:lnTo>
                          <a:pt x="300" y="498"/>
                        </a:lnTo>
                        <a:lnTo>
                          <a:pt x="444" y="581"/>
                        </a:lnTo>
                        <a:lnTo>
                          <a:pt x="614" y="485"/>
                        </a:lnTo>
                        <a:lnTo>
                          <a:pt x="710" y="420"/>
                        </a:lnTo>
                        <a:lnTo>
                          <a:pt x="843" y="353"/>
                        </a:lnTo>
                        <a:lnTo>
                          <a:pt x="1018" y="203"/>
                        </a:lnTo>
                        <a:lnTo>
                          <a:pt x="747" y="51"/>
                        </a:lnTo>
                        <a:lnTo>
                          <a:pt x="660" y="0"/>
                        </a:lnTo>
                        <a:lnTo>
                          <a:pt x="375" y="107"/>
                        </a:lnTo>
                        <a:lnTo>
                          <a:pt x="168" y="195"/>
                        </a:lnTo>
                        <a:lnTo>
                          <a:pt x="0" y="280"/>
                        </a:lnTo>
                        <a:lnTo>
                          <a:pt x="29" y="283"/>
                        </a:lnTo>
                        <a:close/>
                      </a:path>
                    </a:pathLst>
                  </a:custGeom>
                  <a:solidFill>
                    <a:srgbClr val="ac824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" name=""/>
                <p:cNvSpPr/>
                <p:nvPr/>
              </p:nvSpPr>
              <p:spPr>
                <a:xfrm flipH="1">
                  <a:off x="7577280" y="980640"/>
                  <a:ext cx="242280" cy="177120"/>
                </a:xfrm>
                <a:custGeom>
                  <a:avLst/>
                  <a:gdLst/>
                  <a:ahLst/>
                  <a:rect l="l" t="t" r="r" b="b"/>
                  <a:pathLst>
                    <a:path w="508" h="370">
                      <a:moveTo>
                        <a:pt x="26" y="129"/>
                      </a:moveTo>
                      <a:lnTo>
                        <a:pt x="97" y="40"/>
                      </a:lnTo>
                      <a:lnTo>
                        <a:pt x="350" y="186"/>
                      </a:lnTo>
                      <a:lnTo>
                        <a:pt x="461" y="255"/>
                      </a:lnTo>
                      <a:lnTo>
                        <a:pt x="317" y="346"/>
                      </a:lnTo>
                      <a:lnTo>
                        <a:pt x="325" y="368"/>
                      </a:lnTo>
                      <a:lnTo>
                        <a:pt x="339" y="370"/>
                      </a:lnTo>
                      <a:lnTo>
                        <a:pt x="508" y="257"/>
                      </a:lnTo>
                      <a:lnTo>
                        <a:pt x="486" y="226"/>
                      </a:lnTo>
                      <a:lnTo>
                        <a:pt x="297" y="129"/>
                      </a:lnTo>
                      <a:lnTo>
                        <a:pt x="88" y="0"/>
                      </a:lnTo>
                      <a:lnTo>
                        <a:pt x="64" y="24"/>
                      </a:lnTo>
                      <a:lnTo>
                        <a:pt x="0" y="135"/>
                      </a:lnTo>
                      <a:lnTo>
                        <a:pt x="26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 flipH="1">
                  <a:off x="7817400" y="1036080"/>
                  <a:ext cx="399600" cy="148320"/>
                </a:xfrm>
                <a:custGeom>
                  <a:avLst/>
                  <a:gdLst/>
                  <a:ahLst/>
                  <a:rect l="l" t="t" r="r" b="b"/>
                  <a:pathLst>
                    <a:path w="842" h="312">
                      <a:moveTo>
                        <a:pt x="842" y="16"/>
                      </a:moveTo>
                      <a:lnTo>
                        <a:pt x="634" y="0"/>
                      </a:lnTo>
                      <a:lnTo>
                        <a:pt x="362" y="89"/>
                      </a:lnTo>
                      <a:lnTo>
                        <a:pt x="183" y="155"/>
                      </a:lnTo>
                      <a:lnTo>
                        <a:pt x="47" y="230"/>
                      </a:lnTo>
                      <a:lnTo>
                        <a:pt x="0" y="263"/>
                      </a:lnTo>
                      <a:lnTo>
                        <a:pt x="10" y="271"/>
                      </a:lnTo>
                      <a:lnTo>
                        <a:pt x="167" y="312"/>
                      </a:lnTo>
                      <a:lnTo>
                        <a:pt x="183" y="292"/>
                      </a:lnTo>
                      <a:lnTo>
                        <a:pt x="51" y="254"/>
                      </a:lnTo>
                      <a:lnTo>
                        <a:pt x="143" y="198"/>
                      </a:lnTo>
                      <a:lnTo>
                        <a:pt x="234" y="157"/>
                      </a:lnTo>
                      <a:lnTo>
                        <a:pt x="386" y="106"/>
                      </a:lnTo>
                      <a:lnTo>
                        <a:pt x="560" y="51"/>
                      </a:lnTo>
                      <a:lnTo>
                        <a:pt x="631" y="20"/>
                      </a:lnTo>
                      <a:lnTo>
                        <a:pt x="806" y="27"/>
                      </a:lnTo>
                      <a:lnTo>
                        <a:pt x="842" y="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H="1">
                  <a:off x="7928280" y="1177560"/>
                  <a:ext cx="340920" cy="205560"/>
                </a:xfrm>
                <a:custGeom>
                  <a:avLst/>
                  <a:gdLst/>
                  <a:ahLst/>
                  <a:rect l="l" t="t" r="r" b="b"/>
                  <a:pathLst>
                    <a:path w="719" h="434">
                      <a:moveTo>
                        <a:pt x="278" y="0"/>
                      </a:moveTo>
                      <a:lnTo>
                        <a:pt x="134" y="102"/>
                      </a:lnTo>
                      <a:lnTo>
                        <a:pt x="0" y="169"/>
                      </a:lnTo>
                      <a:lnTo>
                        <a:pt x="24" y="198"/>
                      </a:lnTo>
                      <a:lnTo>
                        <a:pt x="289" y="318"/>
                      </a:lnTo>
                      <a:lnTo>
                        <a:pt x="439" y="431"/>
                      </a:lnTo>
                      <a:lnTo>
                        <a:pt x="463" y="434"/>
                      </a:lnTo>
                      <a:lnTo>
                        <a:pt x="719" y="321"/>
                      </a:lnTo>
                      <a:lnTo>
                        <a:pt x="706" y="294"/>
                      </a:lnTo>
                      <a:lnTo>
                        <a:pt x="463" y="407"/>
                      </a:lnTo>
                      <a:lnTo>
                        <a:pt x="414" y="378"/>
                      </a:lnTo>
                      <a:lnTo>
                        <a:pt x="305" y="302"/>
                      </a:lnTo>
                      <a:lnTo>
                        <a:pt x="238" y="271"/>
                      </a:lnTo>
                      <a:lnTo>
                        <a:pt x="149" y="225"/>
                      </a:lnTo>
                      <a:lnTo>
                        <a:pt x="40" y="176"/>
                      </a:lnTo>
                      <a:lnTo>
                        <a:pt x="289" y="40"/>
                      </a:lnTo>
                      <a:lnTo>
                        <a:pt x="27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H="1">
                  <a:off x="7542720" y="1147680"/>
                  <a:ext cx="397080" cy="249840"/>
                </a:xfrm>
                <a:custGeom>
                  <a:avLst/>
                  <a:gdLst/>
                  <a:ahLst/>
                  <a:rect l="l" t="t" r="r" b="b"/>
                  <a:pathLst>
                    <a:path w="834" h="526">
                      <a:moveTo>
                        <a:pt x="42" y="376"/>
                      </a:moveTo>
                      <a:lnTo>
                        <a:pt x="256" y="472"/>
                      </a:lnTo>
                      <a:lnTo>
                        <a:pt x="392" y="376"/>
                      </a:lnTo>
                      <a:lnTo>
                        <a:pt x="506" y="296"/>
                      </a:lnTo>
                      <a:lnTo>
                        <a:pt x="634" y="221"/>
                      </a:lnTo>
                      <a:lnTo>
                        <a:pt x="747" y="144"/>
                      </a:lnTo>
                      <a:lnTo>
                        <a:pt x="792" y="88"/>
                      </a:lnTo>
                      <a:lnTo>
                        <a:pt x="658" y="44"/>
                      </a:lnTo>
                      <a:lnTo>
                        <a:pt x="568" y="21"/>
                      </a:lnTo>
                      <a:lnTo>
                        <a:pt x="584" y="0"/>
                      </a:lnTo>
                      <a:lnTo>
                        <a:pt x="680" y="24"/>
                      </a:lnTo>
                      <a:lnTo>
                        <a:pt x="770" y="55"/>
                      </a:lnTo>
                      <a:lnTo>
                        <a:pt x="834" y="88"/>
                      </a:lnTo>
                      <a:lnTo>
                        <a:pt x="779" y="151"/>
                      </a:lnTo>
                      <a:lnTo>
                        <a:pt x="723" y="198"/>
                      </a:lnTo>
                      <a:lnTo>
                        <a:pt x="642" y="245"/>
                      </a:lnTo>
                      <a:lnTo>
                        <a:pt x="568" y="288"/>
                      </a:lnTo>
                      <a:lnTo>
                        <a:pt x="480" y="345"/>
                      </a:lnTo>
                      <a:lnTo>
                        <a:pt x="408" y="397"/>
                      </a:lnTo>
                      <a:lnTo>
                        <a:pt x="339" y="448"/>
                      </a:lnTo>
                      <a:lnTo>
                        <a:pt x="247" y="526"/>
                      </a:lnTo>
                      <a:lnTo>
                        <a:pt x="0" y="381"/>
                      </a:lnTo>
                      <a:lnTo>
                        <a:pt x="42" y="3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flipH="1">
                  <a:off x="7651080" y="1037880"/>
                  <a:ext cx="489960" cy="293760"/>
                </a:xfrm>
                <a:custGeom>
                  <a:avLst/>
                  <a:gdLst/>
                  <a:ahLst/>
                  <a:rect l="l" t="t" r="r" b="b"/>
                  <a:pathLst>
                    <a:path w="1029" h="619">
                      <a:moveTo>
                        <a:pt x="31" y="297"/>
                      </a:moveTo>
                      <a:lnTo>
                        <a:pt x="165" y="402"/>
                      </a:lnTo>
                      <a:lnTo>
                        <a:pt x="316" y="506"/>
                      </a:lnTo>
                      <a:lnTo>
                        <a:pt x="447" y="584"/>
                      </a:lnTo>
                      <a:lnTo>
                        <a:pt x="572" y="520"/>
                      </a:lnTo>
                      <a:lnTo>
                        <a:pt x="670" y="448"/>
                      </a:lnTo>
                      <a:lnTo>
                        <a:pt x="821" y="370"/>
                      </a:lnTo>
                      <a:lnTo>
                        <a:pt x="995" y="241"/>
                      </a:lnTo>
                      <a:lnTo>
                        <a:pt x="787" y="102"/>
                      </a:lnTo>
                      <a:lnTo>
                        <a:pt x="662" y="24"/>
                      </a:lnTo>
                      <a:lnTo>
                        <a:pt x="683" y="0"/>
                      </a:lnTo>
                      <a:lnTo>
                        <a:pt x="739" y="46"/>
                      </a:lnTo>
                      <a:lnTo>
                        <a:pt x="861" y="120"/>
                      </a:lnTo>
                      <a:lnTo>
                        <a:pt x="1029" y="241"/>
                      </a:lnTo>
                      <a:lnTo>
                        <a:pt x="901" y="344"/>
                      </a:lnTo>
                      <a:lnTo>
                        <a:pt x="758" y="431"/>
                      </a:lnTo>
                      <a:lnTo>
                        <a:pt x="651" y="491"/>
                      </a:lnTo>
                      <a:lnTo>
                        <a:pt x="444" y="619"/>
                      </a:lnTo>
                      <a:lnTo>
                        <a:pt x="286" y="523"/>
                      </a:lnTo>
                      <a:lnTo>
                        <a:pt x="119" y="402"/>
                      </a:lnTo>
                      <a:lnTo>
                        <a:pt x="0" y="322"/>
                      </a:lnTo>
                      <a:lnTo>
                        <a:pt x="0" y="289"/>
                      </a:lnTo>
                      <a:lnTo>
                        <a:pt x="31" y="29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>
                  <a:off x="7807320" y="1040400"/>
                  <a:ext cx="334080" cy="145440"/>
                </a:xfrm>
                <a:custGeom>
                  <a:avLst/>
                  <a:gdLst/>
                  <a:ahLst/>
                  <a:rect l="l" t="t" r="r" b="b"/>
                  <a:pathLst>
                    <a:path w="703" h="306">
                      <a:moveTo>
                        <a:pt x="0" y="291"/>
                      </a:moveTo>
                      <a:lnTo>
                        <a:pt x="199" y="187"/>
                      </a:lnTo>
                      <a:lnTo>
                        <a:pt x="389" y="106"/>
                      </a:lnTo>
                      <a:lnTo>
                        <a:pt x="560" y="40"/>
                      </a:lnTo>
                      <a:lnTo>
                        <a:pt x="688" y="0"/>
                      </a:lnTo>
                      <a:lnTo>
                        <a:pt x="703" y="22"/>
                      </a:lnTo>
                      <a:lnTo>
                        <a:pt x="605" y="49"/>
                      </a:lnTo>
                      <a:lnTo>
                        <a:pt x="480" y="97"/>
                      </a:lnTo>
                      <a:lnTo>
                        <a:pt x="352" y="146"/>
                      </a:lnTo>
                      <a:lnTo>
                        <a:pt x="221" y="201"/>
                      </a:lnTo>
                      <a:lnTo>
                        <a:pt x="16" y="306"/>
                      </a:lnTo>
                      <a:lnTo>
                        <a:pt x="0" y="29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>
                  <a:off x="7647480" y="1266120"/>
                  <a:ext cx="485280" cy="303840"/>
                </a:xfrm>
                <a:custGeom>
                  <a:avLst/>
                  <a:gdLst/>
                  <a:ahLst/>
                  <a:rect l="l" t="t" r="r" b="b"/>
                  <a:pathLst>
                    <a:path w="1020" h="639">
                      <a:moveTo>
                        <a:pt x="0" y="130"/>
                      </a:moveTo>
                      <a:lnTo>
                        <a:pt x="0" y="391"/>
                      </a:lnTo>
                      <a:lnTo>
                        <a:pt x="96" y="466"/>
                      </a:lnTo>
                      <a:lnTo>
                        <a:pt x="232" y="545"/>
                      </a:lnTo>
                      <a:lnTo>
                        <a:pt x="411" y="639"/>
                      </a:lnTo>
                      <a:lnTo>
                        <a:pt x="649" y="480"/>
                      </a:lnTo>
                      <a:lnTo>
                        <a:pt x="841" y="328"/>
                      </a:lnTo>
                      <a:lnTo>
                        <a:pt x="1009" y="208"/>
                      </a:lnTo>
                      <a:lnTo>
                        <a:pt x="1020" y="0"/>
                      </a:lnTo>
                      <a:lnTo>
                        <a:pt x="988" y="26"/>
                      </a:lnTo>
                      <a:lnTo>
                        <a:pt x="984" y="194"/>
                      </a:lnTo>
                      <a:lnTo>
                        <a:pt x="683" y="423"/>
                      </a:lnTo>
                      <a:lnTo>
                        <a:pt x="489" y="559"/>
                      </a:lnTo>
                      <a:lnTo>
                        <a:pt x="427" y="592"/>
                      </a:lnTo>
                      <a:lnTo>
                        <a:pt x="435" y="130"/>
                      </a:lnTo>
                      <a:lnTo>
                        <a:pt x="404" y="122"/>
                      </a:lnTo>
                      <a:lnTo>
                        <a:pt x="395" y="138"/>
                      </a:lnTo>
                      <a:lnTo>
                        <a:pt x="408" y="288"/>
                      </a:lnTo>
                      <a:lnTo>
                        <a:pt x="408" y="511"/>
                      </a:lnTo>
                      <a:lnTo>
                        <a:pt x="393" y="594"/>
                      </a:lnTo>
                      <a:lnTo>
                        <a:pt x="250" y="536"/>
                      </a:lnTo>
                      <a:lnTo>
                        <a:pt x="161" y="480"/>
                      </a:lnTo>
                      <a:lnTo>
                        <a:pt x="56" y="407"/>
                      </a:lnTo>
                      <a:lnTo>
                        <a:pt x="27" y="367"/>
                      </a:lnTo>
                      <a:lnTo>
                        <a:pt x="24" y="143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>
                  <a:off x="7761240" y="1104840"/>
                  <a:ext cx="263880" cy="119520"/>
                </a:xfrm>
                <a:custGeom>
                  <a:avLst/>
                  <a:gdLst/>
                  <a:ahLst/>
                  <a:rect l="l" t="t" r="r" b="b"/>
                  <a:pathLst>
                    <a:path w="555" h="252">
                      <a:moveTo>
                        <a:pt x="14" y="205"/>
                      </a:moveTo>
                      <a:lnTo>
                        <a:pt x="24" y="148"/>
                      </a:lnTo>
                      <a:lnTo>
                        <a:pt x="52" y="99"/>
                      </a:lnTo>
                      <a:lnTo>
                        <a:pt x="98" y="72"/>
                      </a:lnTo>
                      <a:lnTo>
                        <a:pt x="155" y="72"/>
                      </a:lnTo>
                      <a:lnTo>
                        <a:pt x="210" y="87"/>
                      </a:lnTo>
                      <a:lnTo>
                        <a:pt x="251" y="108"/>
                      </a:lnTo>
                      <a:lnTo>
                        <a:pt x="296" y="92"/>
                      </a:lnTo>
                      <a:lnTo>
                        <a:pt x="325" y="47"/>
                      </a:lnTo>
                      <a:lnTo>
                        <a:pt x="366" y="14"/>
                      </a:lnTo>
                      <a:lnTo>
                        <a:pt x="429" y="0"/>
                      </a:lnTo>
                      <a:lnTo>
                        <a:pt x="491" y="4"/>
                      </a:lnTo>
                      <a:lnTo>
                        <a:pt x="548" y="47"/>
                      </a:lnTo>
                      <a:lnTo>
                        <a:pt x="555" y="92"/>
                      </a:lnTo>
                      <a:lnTo>
                        <a:pt x="536" y="167"/>
                      </a:lnTo>
                      <a:lnTo>
                        <a:pt x="476" y="193"/>
                      </a:lnTo>
                      <a:lnTo>
                        <a:pt x="462" y="167"/>
                      </a:lnTo>
                      <a:lnTo>
                        <a:pt x="498" y="153"/>
                      </a:lnTo>
                      <a:lnTo>
                        <a:pt x="521" y="110"/>
                      </a:lnTo>
                      <a:lnTo>
                        <a:pt x="513" y="65"/>
                      </a:lnTo>
                      <a:lnTo>
                        <a:pt x="483" y="35"/>
                      </a:lnTo>
                      <a:lnTo>
                        <a:pt x="421" y="28"/>
                      </a:lnTo>
                      <a:lnTo>
                        <a:pt x="378" y="49"/>
                      </a:lnTo>
                      <a:lnTo>
                        <a:pt x="340" y="94"/>
                      </a:lnTo>
                      <a:lnTo>
                        <a:pt x="318" y="122"/>
                      </a:lnTo>
                      <a:lnTo>
                        <a:pt x="291" y="139"/>
                      </a:lnTo>
                      <a:lnTo>
                        <a:pt x="237" y="144"/>
                      </a:lnTo>
                      <a:lnTo>
                        <a:pt x="192" y="130"/>
                      </a:lnTo>
                      <a:lnTo>
                        <a:pt x="150" y="110"/>
                      </a:lnTo>
                      <a:lnTo>
                        <a:pt x="103" y="110"/>
                      </a:lnTo>
                      <a:lnTo>
                        <a:pt x="67" y="137"/>
                      </a:lnTo>
                      <a:lnTo>
                        <a:pt x="47" y="182"/>
                      </a:lnTo>
                      <a:lnTo>
                        <a:pt x="59" y="222"/>
                      </a:lnTo>
                      <a:lnTo>
                        <a:pt x="103" y="252"/>
                      </a:lnTo>
                      <a:lnTo>
                        <a:pt x="0" y="227"/>
                      </a:lnTo>
                      <a:lnTo>
                        <a:pt x="14" y="20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8229960" y="1308960"/>
                <a:ext cx="286920" cy="234360"/>
                <a:chOff x="8229960" y="1308960"/>
                <a:chExt cx="286920" cy="23436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8229960" y="1308960"/>
                  <a:ext cx="286920" cy="234360"/>
                  <a:chOff x="8229960" y="1308960"/>
                  <a:chExt cx="286920" cy="23436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 flipH="1">
                    <a:off x="8235720" y="1313280"/>
                    <a:ext cx="273960" cy="229680"/>
                  </a:xfrm>
                  <a:custGeom>
                    <a:avLst/>
                    <a:gdLst/>
                    <a:ahLst/>
                    <a:rect l="l" t="t" r="r" b="b"/>
                    <a:pathLst>
                      <a:path w="576" h="481">
                        <a:moveTo>
                          <a:pt x="155" y="74"/>
                        </a:moveTo>
                        <a:lnTo>
                          <a:pt x="218" y="66"/>
                        </a:lnTo>
                        <a:lnTo>
                          <a:pt x="244" y="7"/>
                        </a:lnTo>
                        <a:lnTo>
                          <a:pt x="317" y="0"/>
                        </a:lnTo>
                        <a:lnTo>
                          <a:pt x="317" y="93"/>
                        </a:lnTo>
                        <a:lnTo>
                          <a:pt x="359" y="103"/>
                        </a:lnTo>
                        <a:lnTo>
                          <a:pt x="441" y="52"/>
                        </a:lnTo>
                        <a:lnTo>
                          <a:pt x="514" y="108"/>
                        </a:lnTo>
                        <a:lnTo>
                          <a:pt x="425" y="175"/>
                        </a:lnTo>
                        <a:lnTo>
                          <a:pt x="443" y="199"/>
                        </a:lnTo>
                        <a:lnTo>
                          <a:pt x="551" y="175"/>
                        </a:lnTo>
                        <a:lnTo>
                          <a:pt x="576" y="271"/>
                        </a:lnTo>
                        <a:lnTo>
                          <a:pt x="448" y="289"/>
                        </a:lnTo>
                        <a:lnTo>
                          <a:pt x="441" y="323"/>
                        </a:lnTo>
                        <a:lnTo>
                          <a:pt x="502" y="368"/>
                        </a:lnTo>
                        <a:lnTo>
                          <a:pt x="425" y="444"/>
                        </a:lnTo>
                        <a:lnTo>
                          <a:pt x="381" y="390"/>
                        </a:lnTo>
                        <a:lnTo>
                          <a:pt x="359" y="397"/>
                        </a:lnTo>
                        <a:lnTo>
                          <a:pt x="359" y="474"/>
                        </a:lnTo>
                        <a:lnTo>
                          <a:pt x="266" y="481"/>
                        </a:lnTo>
                        <a:lnTo>
                          <a:pt x="271" y="399"/>
                        </a:lnTo>
                        <a:lnTo>
                          <a:pt x="199" y="399"/>
                        </a:lnTo>
                        <a:lnTo>
                          <a:pt x="175" y="457"/>
                        </a:lnTo>
                        <a:lnTo>
                          <a:pt x="79" y="407"/>
                        </a:lnTo>
                        <a:lnTo>
                          <a:pt x="122" y="359"/>
                        </a:lnTo>
                        <a:lnTo>
                          <a:pt x="86" y="308"/>
                        </a:lnTo>
                        <a:lnTo>
                          <a:pt x="19" y="318"/>
                        </a:lnTo>
                        <a:lnTo>
                          <a:pt x="0" y="234"/>
                        </a:lnTo>
                        <a:lnTo>
                          <a:pt x="81" y="212"/>
                        </a:lnTo>
                        <a:lnTo>
                          <a:pt x="88" y="141"/>
                        </a:lnTo>
                        <a:lnTo>
                          <a:pt x="41" y="110"/>
                        </a:lnTo>
                        <a:lnTo>
                          <a:pt x="108" y="26"/>
                        </a:lnTo>
                        <a:lnTo>
                          <a:pt x="155" y="74"/>
                        </a:lnTo>
                        <a:close/>
                      </a:path>
                    </a:pathLst>
                  </a:custGeom>
                  <a:solidFill>
                    <a:srgbClr val="cecece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8229960" y="1308960"/>
                    <a:ext cx="286920" cy="234360"/>
                    <a:chOff x="8229960" y="1308960"/>
                    <a:chExt cx="286920" cy="234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 flipH="1">
                      <a:off x="8229600" y="1308960"/>
                      <a:ext cx="286920" cy="23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3" h="492">
                          <a:moveTo>
                            <a:pt x="165" y="97"/>
                          </a:moveTo>
                          <a:lnTo>
                            <a:pt x="246" y="89"/>
                          </a:lnTo>
                          <a:lnTo>
                            <a:pt x="267" y="28"/>
                          </a:lnTo>
                          <a:lnTo>
                            <a:pt x="321" y="24"/>
                          </a:lnTo>
                          <a:lnTo>
                            <a:pt x="319" y="109"/>
                          </a:lnTo>
                          <a:lnTo>
                            <a:pt x="374" y="125"/>
                          </a:lnTo>
                          <a:lnTo>
                            <a:pt x="457" y="82"/>
                          </a:lnTo>
                          <a:lnTo>
                            <a:pt x="504" y="115"/>
                          </a:lnTo>
                          <a:lnTo>
                            <a:pt x="431" y="180"/>
                          </a:lnTo>
                          <a:lnTo>
                            <a:pt x="445" y="219"/>
                          </a:lnTo>
                          <a:lnTo>
                            <a:pt x="555" y="200"/>
                          </a:lnTo>
                          <a:lnTo>
                            <a:pt x="576" y="265"/>
                          </a:lnTo>
                          <a:lnTo>
                            <a:pt x="449" y="289"/>
                          </a:lnTo>
                          <a:lnTo>
                            <a:pt x="439" y="334"/>
                          </a:lnTo>
                          <a:lnTo>
                            <a:pt x="500" y="374"/>
                          </a:lnTo>
                          <a:lnTo>
                            <a:pt x="439" y="429"/>
                          </a:lnTo>
                          <a:lnTo>
                            <a:pt x="394" y="371"/>
                          </a:lnTo>
                          <a:lnTo>
                            <a:pt x="358" y="389"/>
                          </a:lnTo>
                          <a:lnTo>
                            <a:pt x="364" y="471"/>
                          </a:lnTo>
                          <a:lnTo>
                            <a:pt x="295" y="474"/>
                          </a:lnTo>
                          <a:lnTo>
                            <a:pt x="291" y="399"/>
                          </a:lnTo>
                          <a:lnTo>
                            <a:pt x="209" y="389"/>
                          </a:lnTo>
                          <a:lnTo>
                            <a:pt x="183" y="443"/>
                          </a:lnTo>
                          <a:lnTo>
                            <a:pt x="112" y="407"/>
                          </a:lnTo>
                          <a:lnTo>
                            <a:pt x="149" y="364"/>
                          </a:lnTo>
                          <a:lnTo>
                            <a:pt x="112" y="298"/>
                          </a:lnTo>
                          <a:lnTo>
                            <a:pt x="45" y="310"/>
                          </a:lnTo>
                          <a:lnTo>
                            <a:pt x="37" y="247"/>
                          </a:lnTo>
                          <a:lnTo>
                            <a:pt x="110" y="234"/>
                          </a:lnTo>
                          <a:lnTo>
                            <a:pt x="118" y="146"/>
                          </a:lnTo>
                          <a:lnTo>
                            <a:pt x="76" y="115"/>
                          </a:lnTo>
                          <a:lnTo>
                            <a:pt x="131" y="46"/>
                          </a:lnTo>
                          <a:lnTo>
                            <a:pt x="104" y="28"/>
                          </a:lnTo>
                          <a:lnTo>
                            <a:pt x="37" y="125"/>
                          </a:lnTo>
                          <a:lnTo>
                            <a:pt x="92" y="161"/>
                          </a:lnTo>
                          <a:lnTo>
                            <a:pt x="82" y="210"/>
                          </a:lnTo>
                          <a:lnTo>
                            <a:pt x="0" y="234"/>
                          </a:lnTo>
                          <a:lnTo>
                            <a:pt x="21" y="338"/>
                          </a:lnTo>
                          <a:lnTo>
                            <a:pt x="100" y="334"/>
                          </a:lnTo>
                          <a:lnTo>
                            <a:pt x="118" y="362"/>
                          </a:lnTo>
                          <a:lnTo>
                            <a:pt x="73" y="419"/>
                          </a:lnTo>
                          <a:lnTo>
                            <a:pt x="173" y="465"/>
                          </a:lnTo>
                          <a:lnTo>
                            <a:pt x="201" y="471"/>
                          </a:lnTo>
                          <a:lnTo>
                            <a:pt x="228" y="411"/>
                          </a:lnTo>
                          <a:lnTo>
                            <a:pt x="258" y="429"/>
                          </a:lnTo>
                          <a:lnTo>
                            <a:pt x="273" y="492"/>
                          </a:lnTo>
                          <a:lnTo>
                            <a:pt x="386" y="490"/>
                          </a:lnTo>
                          <a:lnTo>
                            <a:pt x="386" y="411"/>
                          </a:lnTo>
                          <a:lnTo>
                            <a:pt x="394" y="407"/>
                          </a:lnTo>
                          <a:lnTo>
                            <a:pt x="439" y="462"/>
                          </a:lnTo>
                          <a:lnTo>
                            <a:pt x="536" y="371"/>
                          </a:lnTo>
                          <a:lnTo>
                            <a:pt x="518" y="344"/>
                          </a:lnTo>
                          <a:lnTo>
                            <a:pt x="463" y="316"/>
                          </a:lnTo>
                          <a:lnTo>
                            <a:pt x="482" y="301"/>
                          </a:lnTo>
                          <a:lnTo>
                            <a:pt x="603" y="283"/>
                          </a:lnTo>
                          <a:lnTo>
                            <a:pt x="567" y="164"/>
                          </a:lnTo>
                          <a:lnTo>
                            <a:pt x="455" y="192"/>
                          </a:lnTo>
                          <a:lnTo>
                            <a:pt x="449" y="188"/>
                          </a:lnTo>
                          <a:lnTo>
                            <a:pt x="540" y="115"/>
                          </a:lnTo>
                          <a:lnTo>
                            <a:pt x="455" y="46"/>
                          </a:lnTo>
                          <a:lnTo>
                            <a:pt x="431" y="61"/>
                          </a:lnTo>
                          <a:lnTo>
                            <a:pt x="374" y="101"/>
                          </a:lnTo>
                          <a:lnTo>
                            <a:pt x="340" y="91"/>
                          </a:lnTo>
                          <a:lnTo>
                            <a:pt x="340" y="0"/>
                          </a:lnTo>
                          <a:lnTo>
                            <a:pt x="248" y="6"/>
                          </a:lnTo>
                          <a:lnTo>
                            <a:pt x="218" y="70"/>
                          </a:lnTo>
                          <a:lnTo>
                            <a:pt x="165" y="70"/>
                          </a:lnTo>
                          <a:lnTo>
                            <a:pt x="165" y="9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 flipH="1">
                      <a:off x="8418240" y="1320480"/>
                      <a:ext cx="47160" cy="3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1" h="77">
                          <a:moveTo>
                            <a:pt x="65" y="77"/>
                          </a:moveTo>
                          <a:lnTo>
                            <a:pt x="0" y="14"/>
                          </a:lnTo>
                          <a:lnTo>
                            <a:pt x="14" y="0"/>
                          </a:lnTo>
                          <a:lnTo>
                            <a:pt x="101" y="66"/>
                          </a:lnTo>
                          <a:lnTo>
                            <a:pt x="65" y="7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080" bIns="-10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87" name=""/>
                <p:cNvSpPr/>
                <p:nvPr/>
              </p:nvSpPr>
              <p:spPr>
                <a:xfrm flipH="1">
                  <a:off x="8359920" y="1408680"/>
                  <a:ext cx="47160" cy="31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8751240" y="1244880"/>
                <a:ext cx="164160" cy="272520"/>
                <a:chOff x="8751240" y="1244880"/>
                <a:chExt cx="164160" cy="272520"/>
              </a:xfrm>
            </p:grpSpPr>
            <p:sp>
              <p:nvSpPr>
                <p:cNvPr id="189" name=""/>
                <p:cNvSpPr/>
                <p:nvPr/>
              </p:nvSpPr>
              <p:spPr>
                <a:xfrm flipH="1">
                  <a:off x="8758800" y="1250640"/>
                  <a:ext cx="146880" cy="256680"/>
                </a:xfrm>
                <a:custGeom>
                  <a:avLst/>
                  <a:gdLst/>
                  <a:ahLst/>
                  <a:rect l="l" t="t" r="r" b="b"/>
                  <a:pathLst>
                    <a:path w="308" h="542">
                      <a:moveTo>
                        <a:pt x="47" y="103"/>
                      </a:moveTo>
                      <a:lnTo>
                        <a:pt x="107" y="44"/>
                      </a:lnTo>
                      <a:lnTo>
                        <a:pt x="189" y="0"/>
                      </a:lnTo>
                      <a:lnTo>
                        <a:pt x="256" y="22"/>
                      </a:lnTo>
                      <a:lnTo>
                        <a:pt x="301" y="74"/>
                      </a:lnTo>
                      <a:lnTo>
                        <a:pt x="308" y="120"/>
                      </a:lnTo>
                      <a:lnTo>
                        <a:pt x="294" y="202"/>
                      </a:lnTo>
                      <a:lnTo>
                        <a:pt x="261" y="303"/>
                      </a:lnTo>
                      <a:lnTo>
                        <a:pt x="218" y="379"/>
                      </a:lnTo>
                      <a:lnTo>
                        <a:pt x="156" y="458"/>
                      </a:lnTo>
                      <a:lnTo>
                        <a:pt x="62" y="542"/>
                      </a:lnTo>
                      <a:lnTo>
                        <a:pt x="0" y="473"/>
                      </a:lnTo>
                      <a:lnTo>
                        <a:pt x="149" y="333"/>
                      </a:lnTo>
                      <a:lnTo>
                        <a:pt x="211" y="206"/>
                      </a:lnTo>
                      <a:lnTo>
                        <a:pt x="226" y="113"/>
                      </a:lnTo>
                      <a:lnTo>
                        <a:pt x="204" y="89"/>
                      </a:lnTo>
                      <a:lnTo>
                        <a:pt x="159" y="84"/>
                      </a:lnTo>
                      <a:lnTo>
                        <a:pt x="121" y="113"/>
                      </a:lnTo>
                      <a:lnTo>
                        <a:pt x="104" y="158"/>
                      </a:lnTo>
                      <a:lnTo>
                        <a:pt x="47" y="103"/>
                      </a:lnTo>
                      <a:close/>
                    </a:path>
                  </a:pathLst>
                </a:custGeom>
                <a:solidFill>
                  <a:srgbClr val="caa8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8751240" y="1244880"/>
                  <a:ext cx="164160" cy="272520"/>
                  <a:chOff x="8751240" y="1244880"/>
                  <a:chExt cx="164160" cy="2725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>
                    <a:off x="8751240" y="1244880"/>
                    <a:ext cx="164160" cy="27252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574">
                        <a:moveTo>
                          <a:pt x="119" y="156"/>
                        </a:moveTo>
                        <a:lnTo>
                          <a:pt x="150" y="101"/>
                        </a:lnTo>
                        <a:lnTo>
                          <a:pt x="193" y="79"/>
                        </a:lnTo>
                        <a:lnTo>
                          <a:pt x="238" y="94"/>
                        </a:lnTo>
                        <a:lnTo>
                          <a:pt x="253" y="108"/>
                        </a:lnTo>
                        <a:lnTo>
                          <a:pt x="259" y="140"/>
                        </a:lnTo>
                        <a:lnTo>
                          <a:pt x="246" y="211"/>
                        </a:lnTo>
                        <a:lnTo>
                          <a:pt x="186" y="340"/>
                        </a:lnTo>
                        <a:lnTo>
                          <a:pt x="90" y="434"/>
                        </a:lnTo>
                        <a:lnTo>
                          <a:pt x="45" y="480"/>
                        </a:lnTo>
                        <a:lnTo>
                          <a:pt x="95" y="524"/>
                        </a:lnTo>
                        <a:lnTo>
                          <a:pt x="172" y="444"/>
                        </a:lnTo>
                        <a:lnTo>
                          <a:pt x="251" y="338"/>
                        </a:lnTo>
                        <a:lnTo>
                          <a:pt x="283" y="259"/>
                        </a:lnTo>
                        <a:lnTo>
                          <a:pt x="310" y="175"/>
                        </a:lnTo>
                        <a:lnTo>
                          <a:pt x="321" y="118"/>
                        </a:lnTo>
                        <a:lnTo>
                          <a:pt x="298" y="74"/>
                        </a:lnTo>
                        <a:lnTo>
                          <a:pt x="253" y="41"/>
                        </a:lnTo>
                        <a:lnTo>
                          <a:pt x="193" y="27"/>
                        </a:lnTo>
                        <a:lnTo>
                          <a:pt x="131" y="57"/>
                        </a:lnTo>
                        <a:lnTo>
                          <a:pt x="105" y="96"/>
                        </a:lnTo>
                        <a:lnTo>
                          <a:pt x="72" y="132"/>
                        </a:lnTo>
                        <a:lnTo>
                          <a:pt x="38" y="125"/>
                        </a:lnTo>
                        <a:lnTo>
                          <a:pt x="95" y="67"/>
                        </a:lnTo>
                        <a:lnTo>
                          <a:pt x="139" y="27"/>
                        </a:lnTo>
                        <a:lnTo>
                          <a:pt x="191" y="0"/>
                        </a:lnTo>
                        <a:lnTo>
                          <a:pt x="238" y="0"/>
                        </a:lnTo>
                        <a:lnTo>
                          <a:pt x="274" y="19"/>
                        </a:lnTo>
                        <a:lnTo>
                          <a:pt x="305" y="41"/>
                        </a:lnTo>
                        <a:lnTo>
                          <a:pt x="328" y="67"/>
                        </a:lnTo>
                        <a:lnTo>
                          <a:pt x="343" y="111"/>
                        </a:lnTo>
                        <a:lnTo>
                          <a:pt x="340" y="163"/>
                        </a:lnTo>
                        <a:lnTo>
                          <a:pt x="313" y="242"/>
                        </a:lnTo>
                        <a:lnTo>
                          <a:pt x="283" y="332"/>
                        </a:lnTo>
                        <a:lnTo>
                          <a:pt x="253" y="382"/>
                        </a:lnTo>
                        <a:lnTo>
                          <a:pt x="209" y="441"/>
                        </a:lnTo>
                        <a:lnTo>
                          <a:pt x="139" y="514"/>
                        </a:lnTo>
                        <a:lnTo>
                          <a:pt x="79" y="574"/>
                        </a:lnTo>
                        <a:lnTo>
                          <a:pt x="0" y="478"/>
                        </a:lnTo>
                        <a:lnTo>
                          <a:pt x="88" y="396"/>
                        </a:lnTo>
                        <a:lnTo>
                          <a:pt x="155" y="338"/>
                        </a:lnTo>
                        <a:lnTo>
                          <a:pt x="198" y="271"/>
                        </a:lnTo>
                        <a:lnTo>
                          <a:pt x="217" y="214"/>
                        </a:lnTo>
                        <a:lnTo>
                          <a:pt x="229" y="156"/>
                        </a:lnTo>
                        <a:lnTo>
                          <a:pt x="229" y="118"/>
                        </a:lnTo>
                        <a:lnTo>
                          <a:pt x="209" y="108"/>
                        </a:lnTo>
                        <a:lnTo>
                          <a:pt x="186" y="111"/>
                        </a:lnTo>
                        <a:lnTo>
                          <a:pt x="155" y="137"/>
                        </a:lnTo>
                        <a:lnTo>
                          <a:pt x="127" y="185"/>
                        </a:lnTo>
                        <a:lnTo>
                          <a:pt x="119" y="15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>
                    <a:off x="8848440" y="1299240"/>
                    <a:ext cx="48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69">
                        <a:moveTo>
                          <a:pt x="38" y="0"/>
                        </a:moveTo>
                        <a:lnTo>
                          <a:pt x="101" y="44"/>
                        </a:lnTo>
                        <a:lnTo>
                          <a:pt x="92" y="69"/>
                        </a:lnTo>
                        <a:lnTo>
                          <a:pt x="0" y="9"/>
                        </a:lnTo>
                        <a:lnTo>
                          <a:pt x="3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8468280" y="1476000"/>
                <a:ext cx="357120" cy="200160"/>
                <a:chOff x="8468280" y="1476000"/>
                <a:chExt cx="357120" cy="200160"/>
              </a:xfrm>
            </p:grpSpPr>
            <p:sp>
              <p:nvSpPr>
                <p:cNvPr id="194" name=""/>
                <p:cNvSpPr/>
                <p:nvPr/>
              </p:nvSpPr>
              <p:spPr>
                <a:xfrm flipH="1">
                  <a:off x="8480160" y="1481760"/>
                  <a:ext cx="325080" cy="192600"/>
                </a:xfrm>
                <a:custGeom>
                  <a:avLst/>
                  <a:gdLst/>
                  <a:ahLst/>
                  <a:rect l="l" t="t" r="r" b="b"/>
                  <a:pathLst>
                    <a:path w="686" h="403">
                      <a:moveTo>
                        <a:pt x="0" y="127"/>
                      </a:moveTo>
                      <a:lnTo>
                        <a:pt x="295" y="0"/>
                      </a:lnTo>
                      <a:lnTo>
                        <a:pt x="423" y="82"/>
                      </a:lnTo>
                      <a:lnTo>
                        <a:pt x="502" y="110"/>
                      </a:lnTo>
                      <a:lnTo>
                        <a:pt x="674" y="162"/>
                      </a:lnTo>
                      <a:lnTo>
                        <a:pt x="686" y="207"/>
                      </a:lnTo>
                      <a:lnTo>
                        <a:pt x="446" y="355"/>
                      </a:lnTo>
                      <a:lnTo>
                        <a:pt x="406" y="403"/>
                      </a:lnTo>
                      <a:lnTo>
                        <a:pt x="334" y="351"/>
                      </a:lnTo>
                      <a:lnTo>
                        <a:pt x="261" y="291"/>
                      </a:lnTo>
                      <a:lnTo>
                        <a:pt x="54" y="169"/>
                      </a:lnTo>
                      <a:lnTo>
                        <a:pt x="0" y="1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8468280" y="1476000"/>
                  <a:ext cx="357120" cy="200160"/>
                  <a:chOff x="8468280" y="1476000"/>
                  <a:chExt cx="357120" cy="200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 flipH="1">
                    <a:off x="8468280" y="1476000"/>
                    <a:ext cx="35712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8" h="422">
                        <a:moveTo>
                          <a:pt x="714" y="157"/>
                        </a:moveTo>
                        <a:lnTo>
                          <a:pt x="594" y="126"/>
                        </a:lnTo>
                        <a:lnTo>
                          <a:pt x="493" y="95"/>
                        </a:lnTo>
                        <a:lnTo>
                          <a:pt x="409" y="45"/>
                        </a:lnTo>
                        <a:lnTo>
                          <a:pt x="351" y="0"/>
                        </a:lnTo>
                        <a:lnTo>
                          <a:pt x="317" y="19"/>
                        </a:lnTo>
                        <a:lnTo>
                          <a:pt x="343" y="57"/>
                        </a:lnTo>
                        <a:lnTo>
                          <a:pt x="395" y="72"/>
                        </a:lnTo>
                        <a:lnTo>
                          <a:pt x="491" y="117"/>
                        </a:lnTo>
                        <a:lnTo>
                          <a:pt x="574" y="148"/>
                        </a:lnTo>
                        <a:lnTo>
                          <a:pt x="669" y="179"/>
                        </a:lnTo>
                        <a:lnTo>
                          <a:pt x="707" y="191"/>
                        </a:lnTo>
                        <a:lnTo>
                          <a:pt x="707" y="200"/>
                        </a:lnTo>
                        <a:lnTo>
                          <a:pt x="707" y="216"/>
                        </a:lnTo>
                        <a:lnTo>
                          <a:pt x="674" y="238"/>
                        </a:lnTo>
                        <a:lnTo>
                          <a:pt x="596" y="283"/>
                        </a:lnTo>
                        <a:lnTo>
                          <a:pt x="537" y="320"/>
                        </a:lnTo>
                        <a:lnTo>
                          <a:pt x="478" y="357"/>
                        </a:lnTo>
                        <a:lnTo>
                          <a:pt x="449" y="395"/>
                        </a:lnTo>
                        <a:lnTo>
                          <a:pt x="351" y="317"/>
                        </a:lnTo>
                        <a:lnTo>
                          <a:pt x="235" y="253"/>
                        </a:lnTo>
                        <a:lnTo>
                          <a:pt x="139" y="191"/>
                        </a:lnTo>
                        <a:lnTo>
                          <a:pt x="86" y="154"/>
                        </a:lnTo>
                        <a:lnTo>
                          <a:pt x="48" y="138"/>
                        </a:lnTo>
                        <a:lnTo>
                          <a:pt x="19" y="134"/>
                        </a:lnTo>
                        <a:lnTo>
                          <a:pt x="0" y="146"/>
                        </a:lnTo>
                        <a:lnTo>
                          <a:pt x="21" y="162"/>
                        </a:lnTo>
                        <a:lnTo>
                          <a:pt x="71" y="186"/>
                        </a:lnTo>
                        <a:lnTo>
                          <a:pt x="192" y="260"/>
                        </a:lnTo>
                        <a:lnTo>
                          <a:pt x="284" y="312"/>
                        </a:lnTo>
                        <a:lnTo>
                          <a:pt x="358" y="357"/>
                        </a:lnTo>
                        <a:lnTo>
                          <a:pt x="424" y="417"/>
                        </a:lnTo>
                        <a:lnTo>
                          <a:pt x="456" y="422"/>
                        </a:lnTo>
                        <a:lnTo>
                          <a:pt x="486" y="400"/>
                        </a:lnTo>
                        <a:lnTo>
                          <a:pt x="534" y="355"/>
                        </a:lnTo>
                        <a:lnTo>
                          <a:pt x="611" y="317"/>
                        </a:lnTo>
                        <a:lnTo>
                          <a:pt x="692" y="267"/>
                        </a:lnTo>
                        <a:lnTo>
                          <a:pt x="748" y="231"/>
                        </a:lnTo>
                        <a:lnTo>
                          <a:pt x="743" y="208"/>
                        </a:lnTo>
                        <a:lnTo>
                          <a:pt x="736" y="176"/>
                        </a:lnTo>
                        <a:lnTo>
                          <a:pt x="714" y="15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 flipH="1">
                    <a:off x="8658720" y="1477440"/>
                    <a:ext cx="162720" cy="7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63">
                        <a:moveTo>
                          <a:pt x="0" y="142"/>
                        </a:moveTo>
                        <a:lnTo>
                          <a:pt x="74" y="116"/>
                        </a:lnTo>
                        <a:lnTo>
                          <a:pt x="179" y="73"/>
                        </a:lnTo>
                        <a:lnTo>
                          <a:pt x="272" y="18"/>
                        </a:lnTo>
                        <a:lnTo>
                          <a:pt x="325" y="0"/>
                        </a:lnTo>
                        <a:lnTo>
                          <a:pt x="339" y="2"/>
                        </a:lnTo>
                        <a:lnTo>
                          <a:pt x="342" y="18"/>
                        </a:lnTo>
                        <a:lnTo>
                          <a:pt x="289" y="41"/>
                        </a:lnTo>
                        <a:lnTo>
                          <a:pt x="220" y="80"/>
                        </a:lnTo>
                        <a:lnTo>
                          <a:pt x="112" y="126"/>
                        </a:lnTo>
                        <a:lnTo>
                          <a:pt x="43" y="163"/>
                        </a:lnTo>
                        <a:lnTo>
                          <a:pt x="0" y="14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320" bIns="31320" anchor="t">
                    <a:noAutofit/>
                  </a:bodyPr>
                  <a:p>
                    <a:endParaRPr b="0" lang="en-US" sz="2400" spc="-1" strike="noStrike">
                      <a:solidFill>
                        <a:srgbClr val="0033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8455680" y="1240560"/>
                <a:ext cx="298080" cy="228240"/>
                <a:chOff x="8455680" y="1240560"/>
                <a:chExt cx="298080" cy="228240"/>
              </a:xfrm>
            </p:grpSpPr>
            <p:sp>
              <p:nvSpPr>
                <p:cNvPr id="199" name=""/>
                <p:cNvSpPr/>
                <p:nvPr/>
              </p:nvSpPr>
              <p:spPr>
                <a:xfrm flipH="1">
                  <a:off x="8463960" y="1251720"/>
                  <a:ext cx="285480" cy="215640"/>
                </a:xfrm>
                <a:custGeom>
                  <a:avLst/>
                  <a:gdLst/>
                  <a:ahLst/>
                  <a:rect l="l" t="t" r="r" b="b"/>
                  <a:pathLst>
                    <a:path w="599" h="452">
                      <a:moveTo>
                        <a:pt x="0" y="390"/>
                      </a:moveTo>
                      <a:lnTo>
                        <a:pt x="81" y="308"/>
                      </a:lnTo>
                      <a:lnTo>
                        <a:pt x="131" y="220"/>
                      </a:lnTo>
                      <a:lnTo>
                        <a:pt x="182" y="119"/>
                      </a:lnTo>
                      <a:lnTo>
                        <a:pt x="204" y="14"/>
                      </a:lnTo>
                      <a:lnTo>
                        <a:pt x="592" y="0"/>
                      </a:lnTo>
                      <a:lnTo>
                        <a:pt x="599" y="29"/>
                      </a:lnTo>
                      <a:lnTo>
                        <a:pt x="547" y="175"/>
                      </a:lnTo>
                      <a:lnTo>
                        <a:pt x="515" y="234"/>
                      </a:lnTo>
                      <a:lnTo>
                        <a:pt x="443" y="316"/>
                      </a:lnTo>
                      <a:lnTo>
                        <a:pt x="369" y="404"/>
                      </a:lnTo>
                      <a:lnTo>
                        <a:pt x="333" y="444"/>
                      </a:lnTo>
                      <a:lnTo>
                        <a:pt x="148" y="452"/>
                      </a:lnTo>
                      <a:lnTo>
                        <a:pt x="67" y="444"/>
                      </a:lnTo>
                      <a:lnTo>
                        <a:pt x="7" y="420"/>
                      </a:lnTo>
                      <a:lnTo>
                        <a:pt x="0" y="39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>
                  <a:off x="8455680" y="1240560"/>
                  <a:ext cx="298080" cy="228240"/>
                </a:xfrm>
                <a:custGeom>
                  <a:avLst/>
                  <a:gdLst/>
                  <a:ahLst/>
                  <a:rect l="l" t="t" r="r" b="b"/>
                  <a:pathLst>
                    <a:path w="625" h="479">
                      <a:moveTo>
                        <a:pt x="39" y="412"/>
                      </a:moveTo>
                      <a:lnTo>
                        <a:pt x="121" y="312"/>
                      </a:lnTo>
                      <a:lnTo>
                        <a:pt x="179" y="192"/>
                      </a:lnTo>
                      <a:lnTo>
                        <a:pt x="208" y="111"/>
                      </a:lnTo>
                      <a:lnTo>
                        <a:pt x="227" y="58"/>
                      </a:lnTo>
                      <a:lnTo>
                        <a:pt x="304" y="43"/>
                      </a:lnTo>
                      <a:lnTo>
                        <a:pt x="488" y="50"/>
                      </a:lnTo>
                      <a:lnTo>
                        <a:pt x="584" y="53"/>
                      </a:lnTo>
                      <a:lnTo>
                        <a:pt x="559" y="132"/>
                      </a:lnTo>
                      <a:lnTo>
                        <a:pt x="514" y="235"/>
                      </a:lnTo>
                      <a:lnTo>
                        <a:pt x="441" y="331"/>
                      </a:lnTo>
                      <a:lnTo>
                        <a:pt x="370" y="412"/>
                      </a:lnTo>
                      <a:lnTo>
                        <a:pt x="338" y="450"/>
                      </a:lnTo>
                      <a:lnTo>
                        <a:pt x="246" y="460"/>
                      </a:lnTo>
                      <a:lnTo>
                        <a:pt x="59" y="450"/>
                      </a:lnTo>
                      <a:lnTo>
                        <a:pt x="91" y="474"/>
                      </a:lnTo>
                      <a:lnTo>
                        <a:pt x="236" y="479"/>
                      </a:lnTo>
                      <a:lnTo>
                        <a:pt x="353" y="472"/>
                      </a:lnTo>
                      <a:lnTo>
                        <a:pt x="422" y="400"/>
                      </a:lnTo>
                      <a:lnTo>
                        <a:pt x="500" y="295"/>
                      </a:lnTo>
                      <a:lnTo>
                        <a:pt x="562" y="206"/>
                      </a:lnTo>
                      <a:lnTo>
                        <a:pt x="596" y="124"/>
                      </a:lnTo>
                      <a:lnTo>
                        <a:pt x="618" y="65"/>
                      </a:lnTo>
                      <a:lnTo>
                        <a:pt x="625" y="34"/>
                      </a:lnTo>
                      <a:lnTo>
                        <a:pt x="605" y="0"/>
                      </a:lnTo>
                      <a:lnTo>
                        <a:pt x="552" y="8"/>
                      </a:lnTo>
                      <a:lnTo>
                        <a:pt x="393" y="20"/>
                      </a:lnTo>
                      <a:lnTo>
                        <a:pt x="243" y="20"/>
                      </a:lnTo>
                      <a:lnTo>
                        <a:pt x="206" y="20"/>
                      </a:lnTo>
                      <a:lnTo>
                        <a:pt x="184" y="65"/>
                      </a:lnTo>
                      <a:lnTo>
                        <a:pt x="169" y="161"/>
                      </a:lnTo>
                      <a:lnTo>
                        <a:pt x="128" y="237"/>
                      </a:lnTo>
                      <a:lnTo>
                        <a:pt x="73" y="324"/>
                      </a:lnTo>
                      <a:lnTo>
                        <a:pt x="29" y="376"/>
                      </a:lnTo>
                      <a:lnTo>
                        <a:pt x="0" y="408"/>
                      </a:lnTo>
                      <a:lnTo>
                        <a:pt x="8" y="437"/>
                      </a:lnTo>
                      <a:lnTo>
                        <a:pt x="39" y="443"/>
                      </a:lnTo>
                      <a:lnTo>
                        <a:pt x="39" y="4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8670240" y="471960"/>
                <a:ext cx="144000" cy="144000"/>
                <a:chOff x="8670240" y="471960"/>
                <a:chExt cx="144000" cy="144000"/>
              </a:xfrm>
            </p:grpSpPr>
            <p:sp>
              <p:nvSpPr>
                <p:cNvPr id="202" name=""/>
                <p:cNvSpPr/>
                <p:nvPr/>
              </p:nvSpPr>
              <p:spPr>
                <a:xfrm flipH="1">
                  <a:off x="8670240" y="581760"/>
                  <a:ext cx="35280" cy="34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H="1">
                  <a:off x="8705520" y="471960"/>
                  <a:ext cx="108720" cy="114120"/>
                </a:xfrm>
                <a:custGeom>
                  <a:avLst/>
                  <a:gdLst/>
                  <a:ahLst/>
                  <a:rect l="l" t="t" r="r" b="b"/>
                  <a:pathLst>
                    <a:path w="227" h="242">
                      <a:moveTo>
                        <a:pt x="182" y="157"/>
                      </a:moveTo>
                      <a:lnTo>
                        <a:pt x="182" y="171"/>
                      </a:lnTo>
                      <a:lnTo>
                        <a:pt x="227" y="204"/>
                      </a:lnTo>
                      <a:lnTo>
                        <a:pt x="199" y="242"/>
                      </a:lnTo>
                      <a:lnTo>
                        <a:pt x="154" y="212"/>
                      </a:lnTo>
                      <a:lnTo>
                        <a:pt x="138" y="181"/>
                      </a:lnTo>
                      <a:lnTo>
                        <a:pt x="136" y="148"/>
                      </a:lnTo>
                      <a:lnTo>
                        <a:pt x="131" y="113"/>
                      </a:lnTo>
                      <a:lnTo>
                        <a:pt x="128" y="80"/>
                      </a:lnTo>
                      <a:lnTo>
                        <a:pt x="114" y="66"/>
                      </a:lnTo>
                      <a:lnTo>
                        <a:pt x="93" y="58"/>
                      </a:lnTo>
                      <a:lnTo>
                        <a:pt x="70" y="61"/>
                      </a:lnTo>
                      <a:lnTo>
                        <a:pt x="47" y="89"/>
                      </a:lnTo>
                      <a:lnTo>
                        <a:pt x="47" y="113"/>
                      </a:lnTo>
                      <a:lnTo>
                        <a:pt x="63" y="136"/>
                      </a:lnTo>
                      <a:lnTo>
                        <a:pt x="37" y="174"/>
                      </a:lnTo>
                      <a:lnTo>
                        <a:pt x="14" y="148"/>
                      </a:lnTo>
                      <a:lnTo>
                        <a:pt x="0" y="113"/>
                      </a:lnTo>
                      <a:lnTo>
                        <a:pt x="2" y="73"/>
                      </a:lnTo>
                      <a:lnTo>
                        <a:pt x="14" y="35"/>
                      </a:lnTo>
                      <a:lnTo>
                        <a:pt x="53" y="7"/>
                      </a:lnTo>
                      <a:lnTo>
                        <a:pt x="91" y="0"/>
                      </a:lnTo>
                      <a:lnTo>
                        <a:pt x="114" y="5"/>
                      </a:lnTo>
                      <a:lnTo>
                        <a:pt x="138" y="15"/>
                      </a:lnTo>
                      <a:lnTo>
                        <a:pt x="169" y="43"/>
                      </a:lnTo>
                      <a:lnTo>
                        <a:pt x="173" y="75"/>
                      </a:lnTo>
                      <a:lnTo>
                        <a:pt x="173" y="106"/>
                      </a:lnTo>
                      <a:lnTo>
                        <a:pt x="173" y="129"/>
                      </a:lnTo>
                      <a:lnTo>
                        <a:pt x="182" y="15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8077320" y="392040"/>
                <a:ext cx="129240" cy="156600"/>
                <a:chOff x="8077320" y="392040"/>
                <a:chExt cx="129240" cy="156600"/>
              </a:xfrm>
            </p:grpSpPr>
            <p:sp>
              <p:nvSpPr>
                <p:cNvPr id="205" name=""/>
                <p:cNvSpPr/>
                <p:nvPr/>
              </p:nvSpPr>
              <p:spPr>
                <a:xfrm flipH="1">
                  <a:off x="8172720" y="511920"/>
                  <a:ext cx="33840" cy="36720"/>
                </a:xfrm>
                <a:custGeom>
                  <a:avLst/>
                  <a:gdLst/>
                  <a:ahLst/>
                  <a:rect l="l" t="t" r="r" b="b"/>
                  <a:pathLst>
                    <a:path w="73" h="78">
                      <a:moveTo>
                        <a:pt x="44" y="77"/>
                      </a:moveTo>
                      <a:lnTo>
                        <a:pt x="49" y="75"/>
                      </a:lnTo>
                      <a:lnTo>
                        <a:pt x="55" y="70"/>
                      </a:lnTo>
                      <a:lnTo>
                        <a:pt x="59" y="68"/>
                      </a:lnTo>
                      <a:lnTo>
                        <a:pt x="65" y="64"/>
                      </a:lnTo>
                      <a:lnTo>
                        <a:pt x="67" y="58"/>
                      </a:lnTo>
                      <a:lnTo>
                        <a:pt x="71" y="51"/>
                      </a:lnTo>
                      <a:lnTo>
                        <a:pt x="72" y="46"/>
                      </a:lnTo>
                      <a:lnTo>
                        <a:pt x="73" y="40"/>
                      </a:lnTo>
                      <a:lnTo>
                        <a:pt x="72" y="33"/>
                      </a:lnTo>
                      <a:lnTo>
                        <a:pt x="71" y="27"/>
                      </a:lnTo>
                      <a:lnTo>
                        <a:pt x="66" y="21"/>
                      </a:lnTo>
                      <a:lnTo>
                        <a:pt x="65" y="16"/>
                      </a:lnTo>
                      <a:lnTo>
                        <a:pt x="59" y="11"/>
                      </a:lnTo>
                      <a:lnTo>
                        <a:pt x="54" y="6"/>
                      </a:lnTo>
                      <a:lnTo>
                        <a:pt x="48" y="4"/>
                      </a:lnTo>
                      <a:lnTo>
                        <a:pt x="44" y="1"/>
                      </a:lnTo>
                      <a:lnTo>
                        <a:pt x="36" y="0"/>
                      </a:lnTo>
                      <a:lnTo>
                        <a:pt x="30" y="1"/>
                      </a:lnTo>
                      <a:lnTo>
                        <a:pt x="25" y="2"/>
                      </a:lnTo>
                      <a:lnTo>
                        <a:pt x="19" y="7"/>
                      </a:lnTo>
                      <a:lnTo>
                        <a:pt x="15" y="10"/>
                      </a:lnTo>
                      <a:lnTo>
                        <a:pt x="9" y="13"/>
                      </a:lnTo>
                      <a:lnTo>
                        <a:pt x="6" y="19"/>
                      </a:lnTo>
                      <a:lnTo>
                        <a:pt x="3" y="27"/>
                      </a:lnTo>
                      <a:lnTo>
                        <a:pt x="2" y="32"/>
                      </a:lnTo>
                      <a:lnTo>
                        <a:pt x="0" y="38"/>
                      </a:lnTo>
                      <a:lnTo>
                        <a:pt x="2" y="45"/>
                      </a:lnTo>
                      <a:lnTo>
                        <a:pt x="3" y="51"/>
                      </a:lnTo>
                      <a:lnTo>
                        <a:pt x="8" y="57"/>
                      </a:lnTo>
                      <a:lnTo>
                        <a:pt x="9" y="62"/>
                      </a:lnTo>
                      <a:lnTo>
                        <a:pt x="15" y="67"/>
                      </a:lnTo>
                      <a:lnTo>
                        <a:pt x="20" y="72"/>
                      </a:lnTo>
                      <a:lnTo>
                        <a:pt x="26" y="74"/>
                      </a:lnTo>
                      <a:lnTo>
                        <a:pt x="30" y="77"/>
                      </a:lnTo>
                      <a:lnTo>
                        <a:pt x="38" y="78"/>
                      </a:lnTo>
                      <a:lnTo>
                        <a:pt x="44" y="7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H="1">
                  <a:off x="8076960" y="392040"/>
                  <a:ext cx="106920" cy="117000"/>
                </a:xfrm>
                <a:custGeom>
                  <a:avLst/>
                  <a:gdLst/>
                  <a:ahLst/>
                  <a:rect l="l" t="t" r="r" b="b"/>
                  <a:pathLst>
                    <a:path w="223" h="244">
                      <a:moveTo>
                        <a:pt x="82" y="188"/>
                      </a:moveTo>
                      <a:lnTo>
                        <a:pt x="66" y="190"/>
                      </a:lnTo>
                      <a:lnTo>
                        <a:pt x="43" y="244"/>
                      </a:lnTo>
                      <a:lnTo>
                        <a:pt x="0" y="221"/>
                      </a:lnTo>
                      <a:lnTo>
                        <a:pt x="23" y="171"/>
                      </a:lnTo>
                      <a:lnTo>
                        <a:pt x="49" y="153"/>
                      </a:lnTo>
                      <a:lnTo>
                        <a:pt x="84" y="143"/>
                      </a:lnTo>
                      <a:lnTo>
                        <a:pt x="117" y="133"/>
                      </a:lnTo>
                      <a:lnTo>
                        <a:pt x="147" y="124"/>
                      </a:lnTo>
                      <a:lnTo>
                        <a:pt x="159" y="108"/>
                      </a:lnTo>
                      <a:lnTo>
                        <a:pt x="164" y="85"/>
                      </a:lnTo>
                      <a:lnTo>
                        <a:pt x="157" y="63"/>
                      </a:lnTo>
                      <a:lnTo>
                        <a:pt x="127" y="45"/>
                      </a:lnTo>
                      <a:lnTo>
                        <a:pt x="99" y="49"/>
                      </a:lnTo>
                      <a:lnTo>
                        <a:pt x="82" y="70"/>
                      </a:lnTo>
                      <a:lnTo>
                        <a:pt x="40" y="53"/>
                      </a:lnTo>
                      <a:lnTo>
                        <a:pt x="61" y="23"/>
                      </a:lnTo>
                      <a:lnTo>
                        <a:pt x="89" y="2"/>
                      </a:lnTo>
                      <a:lnTo>
                        <a:pt x="131" y="0"/>
                      </a:lnTo>
                      <a:lnTo>
                        <a:pt x="174" y="2"/>
                      </a:lnTo>
                      <a:lnTo>
                        <a:pt x="204" y="37"/>
                      </a:lnTo>
                      <a:lnTo>
                        <a:pt x="223" y="72"/>
                      </a:lnTo>
                      <a:lnTo>
                        <a:pt x="220" y="98"/>
                      </a:lnTo>
                      <a:lnTo>
                        <a:pt x="213" y="124"/>
                      </a:lnTo>
                      <a:lnTo>
                        <a:pt x="192" y="159"/>
                      </a:lnTo>
                      <a:lnTo>
                        <a:pt x="162" y="166"/>
                      </a:lnTo>
                      <a:lnTo>
                        <a:pt x="131" y="173"/>
                      </a:lnTo>
                      <a:lnTo>
                        <a:pt x="106" y="176"/>
                      </a:lnTo>
                      <a:lnTo>
                        <a:pt x="82" y="1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8228880" y="514800"/>
                <a:ext cx="386640" cy="746640"/>
                <a:chOff x="8228880" y="514800"/>
                <a:chExt cx="386640" cy="746640"/>
              </a:xfrm>
            </p:grpSpPr>
            <p:sp>
              <p:nvSpPr>
                <p:cNvPr id="208" name=""/>
                <p:cNvSpPr/>
                <p:nvPr/>
              </p:nvSpPr>
              <p:spPr>
                <a:xfrm flipH="1">
                  <a:off x="8415360" y="574560"/>
                  <a:ext cx="199800" cy="189720"/>
                </a:xfrm>
                <a:custGeom>
                  <a:avLst/>
                  <a:gdLst/>
                  <a:ahLst/>
                  <a:rect l="l" t="t" r="r" b="b"/>
                  <a:pathLst>
                    <a:path w="420" h="400">
                      <a:moveTo>
                        <a:pt x="137" y="228"/>
                      </a:moveTo>
                      <a:lnTo>
                        <a:pt x="107" y="175"/>
                      </a:lnTo>
                      <a:lnTo>
                        <a:pt x="90" y="134"/>
                      </a:lnTo>
                      <a:lnTo>
                        <a:pt x="82" y="103"/>
                      </a:lnTo>
                      <a:lnTo>
                        <a:pt x="90" y="65"/>
                      </a:lnTo>
                      <a:lnTo>
                        <a:pt x="107" y="39"/>
                      </a:lnTo>
                      <a:lnTo>
                        <a:pt x="135" y="14"/>
                      </a:lnTo>
                      <a:lnTo>
                        <a:pt x="173" y="5"/>
                      </a:lnTo>
                      <a:lnTo>
                        <a:pt x="216" y="0"/>
                      </a:lnTo>
                      <a:lnTo>
                        <a:pt x="263" y="11"/>
                      </a:lnTo>
                      <a:lnTo>
                        <a:pt x="306" y="26"/>
                      </a:lnTo>
                      <a:lnTo>
                        <a:pt x="338" y="50"/>
                      </a:lnTo>
                      <a:lnTo>
                        <a:pt x="368" y="78"/>
                      </a:lnTo>
                      <a:lnTo>
                        <a:pt x="398" y="122"/>
                      </a:lnTo>
                      <a:lnTo>
                        <a:pt x="418" y="154"/>
                      </a:lnTo>
                      <a:lnTo>
                        <a:pt x="420" y="192"/>
                      </a:lnTo>
                      <a:lnTo>
                        <a:pt x="410" y="231"/>
                      </a:lnTo>
                      <a:lnTo>
                        <a:pt x="390" y="264"/>
                      </a:lnTo>
                      <a:lnTo>
                        <a:pt x="368" y="286"/>
                      </a:lnTo>
                      <a:lnTo>
                        <a:pt x="344" y="303"/>
                      </a:lnTo>
                      <a:lnTo>
                        <a:pt x="301" y="312"/>
                      </a:lnTo>
                      <a:lnTo>
                        <a:pt x="263" y="309"/>
                      </a:lnTo>
                      <a:lnTo>
                        <a:pt x="223" y="298"/>
                      </a:lnTo>
                      <a:lnTo>
                        <a:pt x="197" y="286"/>
                      </a:lnTo>
                      <a:lnTo>
                        <a:pt x="166" y="270"/>
                      </a:lnTo>
                      <a:lnTo>
                        <a:pt x="119" y="318"/>
                      </a:lnTo>
                      <a:lnTo>
                        <a:pt x="76" y="364"/>
                      </a:lnTo>
                      <a:lnTo>
                        <a:pt x="62" y="389"/>
                      </a:lnTo>
                      <a:lnTo>
                        <a:pt x="32" y="400"/>
                      </a:lnTo>
                      <a:lnTo>
                        <a:pt x="7" y="394"/>
                      </a:lnTo>
                      <a:lnTo>
                        <a:pt x="0" y="375"/>
                      </a:lnTo>
                      <a:lnTo>
                        <a:pt x="2" y="350"/>
                      </a:lnTo>
                      <a:lnTo>
                        <a:pt x="32" y="323"/>
                      </a:lnTo>
                      <a:lnTo>
                        <a:pt x="90" y="286"/>
                      </a:lnTo>
                      <a:lnTo>
                        <a:pt x="137" y="2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8290080" y="710280"/>
                  <a:ext cx="165600" cy="275400"/>
                </a:xfrm>
                <a:custGeom>
                  <a:avLst/>
                  <a:gdLst/>
                  <a:ahLst/>
                  <a:rect l="l" t="t" r="r" b="b"/>
                  <a:pathLst>
                    <a:path w="350" h="580">
                      <a:moveTo>
                        <a:pt x="30" y="20"/>
                      </a:moveTo>
                      <a:lnTo>
                        <a:pt x="59" y="5"/>
                      </a:lnTo>
                      <a:lnTo>
                        <a:pt x="90" y="0"/>
                      </a:lnTo>
                      <a:lnTo>
                        <a:pt x="125" y="0"/>
                      </a:lnTo>
                      <a:lnTo>
                        <a:pt x="170" y="12"/>
                      </a:lnTo>
                      <a:lnTo>
                        <a:pt x="208" y="34"/>
                      </a:lnTo>
                      <a:lnTo>
                        <a:pt x="245" y="67"/>
                      </a:lnTo>
                      <a:lnTo>
                        <a:pt x="274" y="108"/>
                      </a:lnTo>
                      <a:lnTo>
                        <a:pt x="300" y="154"/>
                      </a:lnTo>
                      <a:lnTo>
                        <a:pt x="327" y="212"/>
                      </a:lnTo>
                      <a:lnTo>
                        <a:pt x="343" y="263"/>
                      </a:lnTo>
                      <a:lnTo>
                        <a:pt x="350" y="322"/>
                      </a:lnTo>
                      <a:lnTo>
                        <a:pt x="350" y="383"/>
                      </a:lnTo>
                      <a:lnTo>
                        <a:pt x="345" y="433"/>
                      </a:lnTo>
                      <a:lnTo>
                        <a:pt x="335" y="477"/>
                      </a:lnTo>
                      <a:lnTo>
                        <a:pt x="319" y="515"/>
                      </a:lnTo>
                      <a:lnTo>
                        <a:pt x="285" y="543"/>
                      </a:lnTo>
                      <a:lnTo>
                        <a:pt x="260" y="565"/>
                      </a:lnTo>
                      <a:lnTo>
                        <a:pt x="208" y="580"/>
                      </a:lnTo>
                      <a:lnTo>
                        <a:pt x="158" y="575"/>
                      </a:lnTo>
                      <a:lnTo>
                        <a:pt x="127" y="560"/>
                      </a:lnTo>
                      <a:lnTo>
                        <a:pt x="102" y="520"/>
                      </a:lnTo>
                      <a:lnTo>
                        <a:pt x="80" y="479"/>
                      </a:lnTo>
                      <a:lnTo>
                        <a:pt x="68" y="425"/>
                      </a:lnTo>
                      <a:lnTo>
                        <a:pt x="80" y="359"/>
                      </a:lnTo>
                      <a:lnTo>
                        <a:pt x="95" y="315"/>
                      </a:lnTo>
                      <a:lnTo>
                        <a:pt x="102" y="272"/>
                      </a:lnTo>
                      <a:lnTo>
                        <a:pt x="97" y="236"/>
                      </a:lnTo>
                      <a:lnTo>
                        <a:pt x="82" y="199"/>
                      </a:lnTo>
                      <a:lnTo>
                        <a:pt x="52" y="169"/>
                      </a:lnTo>
                      <a:lnTo>
                        <a:pt x="28" y="152"/>
                      </a:lnTo>
                      <a:lnTo>
                        <a:pt x="7" y="125"/>
                      </a:lnTo>
                      <a:lnTo>
                        <a:pt x="0" y="94"/>
                      </a:lnTo>
                      <a:lnTo>
                        <a:pt x="0" y="67"/>
                      </a:lnTo>
                      <a:lnTo>
                        <a:pt x="12" y="41"/>
                      </a:lnTo>
                      <a:lnTo>
                        <a:pt x="30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8412480" y="728640"/>
                  <a:ext cx="137160" cy="268200"/>
                </a:xfrm>
                <a:custGeom>
                  <a:avLst/>
                  <a:gdLst/>
                  <a:ahLst/>
                  <a:rect l="l" t="t" r="r" b="b"/>
                  <a:pathLst>
                    <a:path w="288" h="564">
                      <a:moveTo>
                        <a:pt x="154" y="82"/>
                      </a:moveTo>
                      <a:lnTo>
                        <a:pt x="199" y="24"/>
                      </a:lnTo>
                      <a:lnTo>
                        <a:pt x="234" y="0"/>
                      </a:lnTo>
                      <a:lnTo>
                        <a:pt x="260" y="17"/>
                      </a:lnTo>
                      <a:lnTo>
                        <a:pt x="280" y="84"/>
                      </a:lnTo>
                      <a:lnTo>
                        <a:pt x="267" y="111"/>
                      </a:lnTo>
                      <a:lnTo>
                        <a:pt x="199" y="135"/>
                      </a:lnTo>
                      <a:lnTo>
                        <a:pt x="152" y="170"/>
                      </a:lnTo>
                      <a:lnTo>
                        <a:pt x="93" y="214"/>
                      </a:lnTo>
                      <a:lnTo>
                        <a:pt x="61" y="252"/>
                      </a:lnTo>
                      <a:lnTo>
                        <a:pt x="56" y="274"/>
                      </a:lnTo>
                      <a:lnTo>
                        <a:pt x="70" y="296"/>
                      </a:lnTo>
                      <a:lnTo>
                        <a:pt x="86" y="317"/>
                      </a:lnTo>
                      <a:lnTo>
                        <a:pt x="144" y="358"/>
                      </a:lnTo>
                      <a:lnTo>
                        <a:pt x="199" y="387"/>
                      </a:lnTo>
                      <a:lnTo>
                        <a:pt x="250" y="399"/>
                      </a:lnTo>
                      <a:lnTo>
                        <a:pt x="273" y="394"/>
                      </a:lnTo>
                      <a:lnTo>
                        <a:pt x="283" y="401"/>
                      </a:lnTo>
                      <a:lnTo>
                        <a:pt x="288" y="421"/>
                      </a:lnTo>
                      <a:lnTo>
                        <a:pt x="253" y="451"/>
                      </a:lnTo>
                      <a:lnTo>
                        <a:pt x="227" y="483"/>
                      </a:lnTo>
                      <a:lnTo>
                        <a:pt x="220" y="520"/>
                      </a:lnTo>
                      <a:lnTo>
                        <a:pt x="215" y="554"/>
                      </a:lnTo>
                      <a:lnTo>
                        <a:pt x="192" y="564"/>
                      </a:lnTo>
                      <a:lnTo>
                        <a:pt x="174" y="554"/>
                      </a:lnTo>
                      <a:lnTo>
                        <a:pt x="177" y="512"/>
                      </a:lnTo>
                      <a:lnTo>
                        <a:pt x="192" y="466"/>
                      </a:lnTo>
                      <a:lnTo>
                        <a:pt x="220" y="424"/>
                      </a:lnTo>
                      <a:lnTo>
                        <a:pt x="161" y="409"/>
                      </a:lnTo>
                      <a:lnTo>
                        <a:pt x="98" y="384"/>
                      </a:lnTo>
                      <a:lnTo>
                        <a:pt x="45" y="350"/>
                      </a:lnTo>
                      <a:lnTo>
                        <a:pt x="18" y="320"/>
                      </a:lnTo>
                      <a:lnTo>
                        <a:pt x="0" y="276"/>
                      </a:lnTo>
                      <a:lnTo>
                        <a:pt x="0" y="252"/>
                      </a:lnTo>
                      <a:lnTo>
                        <a:pt x="14" y="214"/>
                      </a:lnTo>
                      <a:lnTo>
                        <a:pt x="53" y="178"/>
                      </a:lnTo>
                      <a:lnTo>
                        <a:pt x="106" y="133"/>
                      </a:lnTo>
                      <a:lnTo>
                        <a:pt x="154" y="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>
                  <a:off x="8248680" y="514800"/>
                  <a:ext cx="229680" cy="235440"/>
                </a:xfrm>
                <a:custGeom>
                  <a:avLst/>
                  <a:gdLst/>
                  <a:ahLst/>
                  <a:rect l="l" t="t" r="r" b="b"/>
                  <a:pathLst>
                    <a:path w="483" h="495">
                      <a:moveTo>
                        <a:pt x="209" y="436"/>
                      </a:moveTo>
                      <a:lnTo>
                        <a:pt x="256" y="428"/>
                      </a:lnTo>
                      <a:lnTo>
                        <a:pt x="322" y="411"/>
                      </a:lnTo>
                      <a:lnTo>
                        <a:pt x="344" y="403"/>
                      </a:lnTo>
                      <a:lnTo>
                        <a:pt x="382" y="372"/>
                      </a:lnTo>
                      <a:lnTo>
                        <a:pt x="415" y="325"/>
                      </a:lnTo>
                      <a:lnTo>
                        <a:pt x="425" y="299"/>
                      </a:lnTo>
                      <a:lnTo>
                        <a:pt x="425" y="268"/>
                      </a:lnTo>
                      <a:lnTo>
                        <a:pt x="369" y="234"/>
                      </a:lnTo>
                      <a:lnTo>
                        <a:pt x="274" y="190"/>
                      </a:lnTo>
                      <a:lnTo>
                        <a:pt x="214" y="183"/>
                      </a:lnTo>
                      <a:lnTo>
                        <a:pt x="173" y="189"/>
                      </a:lnTo>
                      <a:lnTo>
                        <a:pt x="142" y="203"/>
                      </a:lnTo>
                      <a:lnTo>
                        <a:pt x="121" y="210"/>
                      </a:lnTo>
                      <a:lnTo>
                        <a:pt x="101" y="196"/>
                      </a:lnTo>
                      <a:lnTo>
                        <a:pt x="94" y="177"/>
                      </a:lnTo>
                      <a:lnTo>
                        <a:pt x="126" y="154"/>
                      </a:lnTo>
                      <a:lnTo>
                        <a:pt x="155" y="151"/>
                      </a:lnTo>
                      <a:lnTo>
                        <a:pt x="180" y="145"/>
                      </a:lnTo>
                      <a:lnTo>
                        <a:pt x="187" y="133"/>
                      </a:lnTo>
                      <a:lnTo>
                        <a:pt x="180" y="93"/>
                      </a:lnTo>
                      <a:lnTo>
                        <a:pt x="148" y="66"/>
                      </a:lnTo>
                      <a:lnTo>
                        <a:pt x="114" y="54"/>
                      </a:lnTo>
                      <a:lnTo>
                        <a:pt x="74" y="55"/>
                      </a:lnTo>
                      <a:lnTo>
                        <a:pt x="53" y="66"/>
                      </a:lnTo>
                      <a:lnTo>
                        <a:pt x="45" y="87"/>
                      </a:lnTo>
                      <a:lnTo>
                        <a:pt x="47" y="109"/>
                      </a:lnTo>
                      <a:lnTo>
                        <a:pt x="58" y="123"/>
                      </a:lnTo>
                      <a:lnTo>
                        <a:pt x="47" y="135"/>
                      </a:lnTo>
                      <a:lnTo>
                        <a:pt x="24" y="139"/>
                      </a:lnTo>
                      <a:lnTo>
                        <a:pt x="5" y="121"/>
                      </a:lnTo>
                      <a:lnTo>
                        <a:pt x="0" y="93"/>
                      </a:lnTo>
                      <a:lnTo>
                        <a:pt x="11" y="54"/>
                      </a:lnTo>
                      <a:lnTo>
                        <a:pt x="34" y="37"/>
                      </a:lnTo>
                      <a:lnTo>
                        <a:pt x="53" y="16"/>
                      </a:lnTo>
                      <a:lnTo>
                        <a:pt x="92" y="7"/>
                      </a:lnTo>
                      <a:lnTo>
                        <a:pt x="126" y="0"/>
                      </a:lnTo>
                      <a:lnTo>
                        <a:pt x="142" y="0"/>
                      </a:lnTo>
                      <a:lnTo>
                        <a:pt x="169" y="24"/>
                      </a:lnTo>
                      <a:lnTo>
                        <a:pt x="193" y="49"/>
                      </a:lnTo>
                      <a:lnTo>
                        <a:pt x="234" y="96"/>
                      </a:lnTo>
                      <a:lnTo>
                        <a:pt x="269" y="141"/>
                      </a:lnTo>
                      <a:lnTo>
                        <a:pt x="324" y="172"/>
                      </a:lnTo>
                      <a:lnTo>
                        <a:pt x="378" y="196"/>
                      </a:lnTo>
                      <a:lnTo>
                        <a:pt x="438" y="225"/>
                      </a:lnTo>
                      <a:lnTo>
                        <a:pt x="472" y="237"/>
                      </a:lnTo>
                      <a:lnTo>
                        <a:pt x="483" y="252"/>
                      </a:lnTo>
                      <a:lnTo>
                        <a:pt x="478" y="306"/>
                      </a:lnTo>
                      <a:lnTo>
                        <a:pt x="463" y="354"/>
                      </a:lnTo>
                      <a:lnTo>
                        <a:pt x="436" y="391"/>
                      </a:lnTo>
                      <a:lnTo>
                        <a:pt x="391" y="436"/>
                      </a:lnTo>
                      <a:lnTo>
                        <a:pt x="328" y="471"/>
                      </a:lnTo>
                      <a:lnTo>
                        <a:pt x="243" y="495"/>
                      </a:lnTo>
                      <a:lnTo>
                        <a:pt x="203" y="492"/>
                      </a:lnTo>
                      <a:lnTo>
                        <a:pt x="173" y="471"/>
                      </a:lnTo>
                      <a:lnTo>
                        <a:pt x="169" y="447"/>
                      </a:lnTo>
                      <a:lnTo>
                        <a:pt x="209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8228880" y="936000"/>
                  <a:ext cx="131040" cy="308160"/>
                </a:xfrm>
                <a:custGeom>
                  <a:avLst/>
                  <a:gdLst/>
                  <a:ahLst/>
                  <a:rect l="l" t="t" r="r" b="b"/>
                  <a:pathLst>
                    <a:path w="274" h="647">
                      <a:moveTo>
                        <a:pt x="7" y="60"/>
                      </a:moveTo>
                      <a:lnTo>
                        <a:pt x="0" y="32"/>
                      </a:lnTo>
                      <a:lnTo>
                        <a:pt x="28" y="0"/>
                      </a:lnTo>
                      <a:lnTo>
                        <a:pt x="64" y="3"/>
                      </a:lnTo>
                      <a:lnTo>
                        <a:pt x="90" y="15"/>
                      </a:lnTo>
                      <a:lnTo>
                        <a:pt x="120" y="55"/>
                      </a:lnTo>
                      <a:lnTo>
                        <a:pt x="142" y="135"/>
                      </a:lnTo>
                      <a:lnTo>
                        <a:pt x="172" y="207"/>
                      </a:lnTo>
                      <a:lnTo>
                        <a:pt x="199" y="274"/>
                      </a:lnTo>
                      <a:lnTo>
                        <a:pt x="199" y="310"/>
                      </a:lnTo>
                      <a:lnTo>
                        <a:pt x="199" y="339"/>
                      </a:lnTo>
                      <a:lnTo>
                        <a:pt x="185" y="376"/>
                      </a:lnTo>
                      <a:lnTo>
                        <a:pt x="147" y="450"/>
                      </a:lnTo>
                      <a:lnTo>
                        <a:pt x="125" y="514"/>
                      </a:lnTo>
                      <a:lnTo>
                        <a:pt x="118" y="539"/>
                      </a:lnTo>
                      <a:lnTo>
                        <a:pt x="135" y="558"/>
                      </a:lnTo>
                      <a:lnTo>
                        <a:pt x="185" y="573"/>
                      </a:lnTo>
                      <a:lnTo>
                        <a:pt x="246" y="587"/>
                      </a:lnTo>
                      <a:lnTo>
                        <a:pt x="274" y="603"/>
                      </a:lnTo>
                      <a:lnTo>
                        <a:pt x="246" y="627"/>
                      </a:lnTo>
                      <a:lnTo>
                        <a:pt x="192" y="647"/>
                      </a:lnTo>
                      <a:lnTo>
                        <a:pt x="165" y="640"/>
                      </a:lnTo>
                      <a:lnTo>
                        <a:pt x="142" y="610"/>
                      </a:lnTo>
                      <a:lnTo>
                        <a:pt x="104" y="587"/>
                      </a:lnTo>
                      <a:lnTo>
                        <a:pt x="73" y="587"/>
                      </a:lnTo>
                      <a:lnTo>
                        <a:pt x="52" y="583"/>
                      </a:lnTo>
                      <a:lnTo>
                        <a:pt x="42" y="558"/>
                      </a:lnTo>
                      <a:lnTo>
                        <a:pt x="57" y="531"/>
                      </a:lnTo>
                      <a:lnTo>
                        <a:pt x="82" y="495"/>
                      </a:lnTo>
                      <a:lnTo>
                        <a:pt x="104" y="465"/>
                      </a:lnTo>
                      <a:lnTo>
                        <a:pt x="132" y="392"/>
                      </a:lnTo>
                      <a:lnTo>
                        <a:pt x="142" y="347"/>
                      </a:lnTo>
                      <a:lnTo>
                        <a:pt x="147" y="310"/>
                      </a:lnTo>
                      <a:lnTo>
                        <a:pt x="140" y="274"/>
                      </a:lnTo>
                      <a:lnTo>
                        <a:pt x="118" y="231"/>
                      </a:lnTo>
                      <a:lnTo>
                        <a:pt x="80" y="192"/>
                      </a:lnTo>
                      <a:lnTo>
                        <a:pt x="42" y="128"/>
                      </a:lnTo>
                      <a:lnTo>
                        <a:pt x="7" y="6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H="1">
                  <a:off x="8354160" y="940320"/>
                  <a:ext cx="91080" cy="321120"/>
                </a:xfrm>
                <a:custGeom>
                  <a:avLst/>
                  <a:gdLst/>
                  <a:ahLst/>
                  <a:rect l="l" t="t" r="r" b="b"/>
                  <a:pathLst>
                    <a:path w="193" h="674">
                      <a:moveTo>
                        <a:pt x="76" y="166"/>
                      </a:moveTo>
                      <a:lnTo>
                        <a:pt x="99" y="74"/>
                      </a:lnTo>
                      <a:lnTo>
                        <a:pt x="114" y="14"/>
                      </a:lnTo>
                      <a:lnTo>
                        <a:pt x="139" y="0"/>
                      </a:lnTo>
                      <a:lnTo>
                        <a:pt x="175" y="4"/>
                      </a:lnTo>
                      <a:lnTo>
                        <a:pt x="193" y="41"/>
                      </a:lnTo>
                      <a:lnTo>
                        <a:pt x="177" y="86"/>
                      </a:lnTo>
                      <a:lnTo>
                        <a:pt x="160" y="166"/>
                      </a:lnTo>
                      <a:lnTo>
                        <a:pt x="137" y="257"/>
                      </a:lnTo>
                      <a:lnTo>
                        <a:pt x="130" y="320"/>
                      </a:lnTo>
                      <a:lnTo>
                        <a:pt x="130" y="409"/>
                      </a:lnTo>
                      <a:lnTo>
                        <a:pt x="139" y="483"/>
                      </a:lnTo>
                      <a:lnTo>
                        <a:pt x="147" y="554"/>
                      </a:lnTo>
                      <a:lnTo>
                        <a:pt x="155" y="576"/>
                      </a:lnTo>
                      <a:lnTo>
                        <a:pt x="144" y="590"/>
                      </a:lnTo>
                      <a:lnTo>
                        <a:pt x="114" y="605"/>
                      </a:lnTo>
                      <a:lnTo>
                        <a:pt x="86" y="638"/>
                      </a:lnTo>
                      <a:lnTo>
                        <a:pt x="71" y="672"/>
                      </a:lnTo>
                      <a:lnTo>
                        <a:pt x="46" y="674"/>
                      </a:lnTo>
                      <a:lnTo>
                        <a:pt x="0" y="652"/>
                      </a:lnTo>
                      <a:lnTo>
                        <a:pt x="7" y="630"/>
                      </a:lnTo>
                      <a:lnTo>
                        <a:pt x="33" y="613"/>
                      </a:lnTo>
                      <a:lnTo>
                        <a:pt x="79" y="576"/>
                      </a:lnTo>
                      <a:lnTo>
                        <a:pt x="102" y="556"/>
                      </a:lnTo>
                      <a:lnTo>
                        <a:pt x="114" y="532"/>
                      </a:lnTo>
                      <a:lnTo>
                        <a:pt x="114" y="483"/>
                      </a:lnTo>
                      <a:lnTo>
                        <a:pt x="99" y="407"/>
                      </a:lnTo>
                      <a:lnTo>
                        <a:pt x="84" y="339"/>
                      </a:lnTo>
                      <a:lnTo>
                        <a:pt x="76" y="277"/>
                      </a:lnTo>
                      <a:lnTo>
                        <a:pt x="71" y="228"/>
                      </a:lnTo>
                      <a:lnTo>
                        <a:pt x="76" y="16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33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"/>
          <p:cNvSpPr/>
          <p:nvPr/>
        </p:nvSpPr>
        <p:spPr>
          <a:xfrm>
            <a:off x="4724280" y="2057400"/>
            <a:ext cx="4419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o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ich (one / ones)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n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How much / man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ere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33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925D-4B1A-489F-89FB-27F8F1890690}" type="slidenum">
              <a:t>4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3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3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8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3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320" y="2285640"/>
            <a:ext cx="71629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 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 tu mochila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your backpack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l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tus libros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ich (ones)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r book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07240" y="152280"/>
            <a:ext cx="2184480" cy="2016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173240" y="5961240"/>
            <a:ext cx="682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Cuál / Cuál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are used to choose from among a grou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2A0-2BD6-4C73-93AA-CC95538FCC68}" type="slidenum">
              <a:t>5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6320" y="152280"/>
            <a:ext cx="2622600" cy="208296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362320"/>
            <a:ext cx="5943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de Argentina? *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from Argentin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iéne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son ellos? *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o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they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62480" y="5961240"/>
            <a:ext cx="585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33"/>
                </a:solidFill>
                <a:latin typeface="Comic Sans MS"/>
              </a:rPr>
              <a:t>* Quién / Quiénes </a:t>
            </a:r>
            <a:r>
              <a:rPr b="0" lang="en-US" sz="2000" spc="-1" strike="noStrike">
                <a:solidFill>
                  <a:srgbClr val="003366"/>
                </a:solidFill>
                <a:latin typeface="Comic Sans MS"/>
              </a:rPr>
              <a:t>get singular  / plural answer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1BF-0FEA-4634-9DA3-EC8EB8E78E46}" type="slidenum">
              <a:t>6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76320" y="274320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a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area hay en la clase de español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uch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homework is there in Spanish class?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tos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ntes hay en la clase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How man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students are in the class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710320" y="76320"/>
            <a:ext cx="3357360" cy="20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8DB-706E-4C01-96C9-CE6E71763CA0}" type="slidenum">
              <a:t>7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990720" y="2743200"/>
            <a:ext cx="716256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 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udias hoy?  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y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you studying today?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Estudio 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porqu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tengo un examen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I am studying </a:t>
            </a: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becaus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 have a test.</a:t>
            </a: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335232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080" y="120600"/>
            <a:ext cx="244152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1FA0-0A0D-4A03-8EA7-616B3CE5C9F4}" type="slidenum">
              <a:t>8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80880" y="1828800"/>
            <a:ext cx="71629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Cuándo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l concierto de rock?</a:t>
            </a:r>
            <a:r>
              <a:rPr b="0" lang="es-ES" sz="3200" spc="-1" strike="noStrike">
                <a:solidFill>
                  <a:srgbClr val="00ff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n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e rock concert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Qué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 est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at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is thi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¿</a:t>
            </a:r>
            <a:r>
              <a:rPr b="0" lang="es-ES" sz="3200" spc="-1" strike="noStrike" u="sng">
                <a:solidFill>
                  <a:srgbClr val="ff0033"/>
                </a:solidFill>
                <a:uFillTx/>
                <a:latin typeface="Comic Sans MS"/>
              </a:rPr>
              <a:t>Dónde</a:t>
            </a:r>
            <a:r>
              <a:rPr b="0" lang="es-ES" sz="3200" spc="-1" strike="noStrike">
                <a:solidFill>
                  <a:srgbClr val="ff0033"/>
                </a:solidFill>
                <a:latin typeface="Comic Sans MS"/>
              </a:rPr>
              <a:t> están mis libr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3366"/>
                </a:solidFill>
                <a:uFillTx/>
                <a:latin typeface="Comic Sans MS"/>
              </a:rPr>
              <a:t>Where</a:t>
            </a:r>
            <a:r>
              <a:rPr b="0" lang="es-ES" sz="3200" spc="-1" strike="noStrike">
                <a:solidFill>
                  <a:srgbClr val="003366"/>
                </a:solidFill>
                <a:latin typeface="Comic Sans MS"/>
              </a:rPr>
              <a:t> are my book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12280"/>
            <a:ext cx="5334120" cy="116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Comic Sans MS"/>
              </a:rPr>
              <a:t>Por Ejemplo…</a:t>
            </a:r>
            <a:endParaRPr b="0" lang="en-US" sz="54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988320" y="152280"/>
            <a:ext cx="2003400" cy="199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EE6-A36C-4A6A-8197-AAC41A6ED833}" type="slidenum">
              <a:t>9</a:t>
            </a:fld>
          </a:p>
        </p:txBody>
      </p:sp>
    </p:spTree>
  </p:cSld>
  <p:transition spd="med">
    <p:zoom dir="out"/>
    <p:sndAc>
      <p:stSnd>
        <p:snd r:embed="rId2" name="whoosh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16:36:04Z</dcterms:created>
  <dc:creator>olseng</dc:creator>
  <dc:description/>
  <dc:language>en-US</dc:language>
  <cp:lastModifiedBy>nfannoney</cp:lastModifiedBy>
  <dcterms:modified xsi:type="dcterms:W3CDTF">2012-12-06T20:22:37Z</dcterms:modified>
  <cp:revision>90</cp:revision>
  <dc:subject/>
  <dc:title>Adjective Agreem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byui.edu/Ricks/Academics/Academics.html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PPPresentation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